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E127-F9B1-476F-9C44-43CD0CDD9D1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ering Chapter 1-3 of Silbersha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OS 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ow they designed and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/CS - OS Spring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43640" cy="912960"/>
            <a:chOff x="0" y="0"/>
            <a:chExt cx="9143640" cy="912960"/>
          </a:xfrm>
        </p:grpSpPr>
        <p:sp>
          <p:nvSpPr>
            <p:cNvPr id="7" name=""/>
            <p:cNvSpPr/>
            <p:nvPr/>
          </p:nvSpPr>
          <p:spPr>
            <a:xfrm>
              <a:off x="969840" y="34920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6984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2120" y="8892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684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27440" y="17100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2744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70080" y="26028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66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1980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71640" y="34920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0112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71880" y="8892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7188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14160" y="17100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172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14280" y="26028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142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056920" y="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58720" y="1980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9840" y="52056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6984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12120" y="78084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8684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927440" y="69732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92744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0080" y="60984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566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86868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3848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571640" y="52056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70112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771880" y="78084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7188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14160" y="69732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4172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14280" y="60984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142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56920" y="86868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58720" y="43848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198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Lecture 5 -</a:t>
            </a:r>
            <a:fld id="{FB9F3A86-2750-4B72-8810-E54A4F490946}" type="slidenum">
              <a:rPr b="0" lang="he-IL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3640" cy="6847200"/>
            <a:chOff x="0" y="0"/>
            <a:chExt cx="9143640" cy="6847200"/>
          </a:xfrm>
        </p:grpSpPr>
        <p:sp>
          <p:nvSpPr>
            <p:cNvPr id="89" name=""/>
            <p:cNvSpPr/>
            <p:nvPr/>
          </p:nvSpPr>
          <p:spPr>
            <a:xfrm>
              <a:off x="969840" y="26200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984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2120" y="66852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8684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7440" y="128304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744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0080" y="195156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566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5084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1640" y="26200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112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71880" y="66852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188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4160" y="128304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172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14280" y="195156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42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56920" y="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58720" y="15084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9034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2120" y="585540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684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7440" y="522972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744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0080" y="457200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66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51312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328896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1640" y="39034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0112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1880" y="585540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188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160" y="522972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4172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4280" y="457200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42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6920" y="651312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8720" y="328896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 – CS / Spring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ment – Virtual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&amp;G&amp;G Chapter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8600" y="25225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vi Yehu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fault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510160" y="3051000"/>
            <a:ext cx="1324080" cy="2318040"/>
            <a:chOff x="5510160" y="3051000"/>
            <a:chExt cx="1324080" cy="2318040"/>
          </a:xfrm>
        </p:grpSpPr>
        <p:sp>
          <p:nvSpPr>
            <p:cNvPr id="330" name=""/>
            <p:cNvSpPr/>
            <p:nvPr/>
          </p:nvSpPr>
          <p:spPr>
            <a:xfrm>
              <a:off x="5511960" y="3825720"/>
              <a:ext cx="1306440" cy="39060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Free 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10160" y="3051000"/>
              <a:ext cx="1306440" cy="231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10160" y="341964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0160" y="380844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27800" y="458784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21320" y="419904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16640" y="497844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408480" y="2625840"/>
            <a:ext cx="985680" cy="806400"/>
            <a:chOff x="3408480" y="2625840"/>
            <a:chExt cx="985680" cy="806400"/>
          </a:xfrm>
        </p:grpSpPr>
        <p:sp>
          <p:nvSpPr>
            <p:cNvPr id="338" name=""/>
            <p:cNvSpPr/>
            <p:nvPr/>
          </p:nvSpPr>
          <p:spPr>
            <a:xfrm>
              <a:off x="3408480" y="2898720"/>
              <a:ext cx="985680" cy="2365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08480" y="2625840"/>
              <a:ext cx="98568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03720" y="2898720"/>
              <a:ext cx="19044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35160" y="2219400"/>
            <a:ext cx="784080" cy="3382920"/>
            <a:chOff x="1235160" y="2219400"/>
            <a:chExt cx="784080" cy="3382920"/>
          </a:xfrm>
        </p:grpSpPr>
        <p:sp>
          <p:nvSpPr>
            <p:cNvPr id="342" name=""/>
            <p:cNvSpPr/>
            <p:nvPr/>
          </p:nvSpPr>
          <p:spPr>
            <a:xfrm>
              <a:off x="1235160" y="2219400"/>
              <a:ext cx="0" cy="33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17800" y="2276640"/>
              <a:ext cx="0" cy="33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35160" y="2540160"/>
              <a:ext cx="784080" cy="61740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ad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184480" y="1235160"/>
            <a:ext cx="641160" cy="8427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516800" y="1711440"/>
            <a:ext cx="914400" cy="2341440"/>
            <a:chOff x="7516800" y="1711440"/>
            <a:chExt cx="914400" cy="2341440"/>
          </a:xfrm>
        </p:grpSpPr>
        <p:sp>
          <p:nvSpPr>
            <p:cNvPr id="347" name=""/>
            <p:cNvSpPr/>
            <p:nvPr/>
          </p:nvSpPr>
          <p:spPr>
            <a:xfrm>
              <a:off x="7516800" y="1711440"/>
              <a:ext cx="914400" cy="2341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08840" y="2554200"/>
              <a:ext cx="344520" cy="308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50160" y="23796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24560" y="54180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43720" y="12952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ing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019240" y="2197080"/>
            <a:ext cx="1389240" cy="784080"/>
            <a:chOff x="2019240" y="2197080"/>
            <a:chExt cx="1389240" cy="784080"/>
          </a:xfrm>
        </p:grpSpPr>
        <p:sp>
          <p:nvSpPr>
            <p:cNvPr id="353" name=""/>
            <p:cNvSpPr/>
            <p:nvPr/>
          </p:nvSpPr>
          <p:spPr>
            <a:xfrm>
              <a:off x="2019240" y="2660760"/>
              <a:ext cx="7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08280" y="2671920"/>
              <a:ext cx="70020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840" y="2427120"/>
              <a:ext cx="225360" cy="20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71800" y="219708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824920" y="1657080"/>
            <a:ext cx="2264760" cy="1360440"/>
            <a:chOff x="2824920" y="1657080"/>
            <a:chExt cx="2264760" cy="1360440"/>
          </a:xfrm>
        </p:grpSpPr>
        <p:sp>
          <p:nvSpPr>
            <p:cNvPr id="358" name=""/>
            <p:cNvSpPr/>
            <p:nvPr/>
          </p:nvSpPr>
          <p:spPr>
            <a:xfrm>
              <a:off x="4700520" y="2224080"/>
              <a:ext cx="225360" cy="20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9" name=""/>
            <p:cNvCxnSpPr/>
            <p:nvPr/>
          </p:nvCxnSpPr>
          <p:spPr>
            <a:xfrm flipH="1" flipV="1">
              <a:off x="2824920" y="1657080"/>
              <a:ext cx="1569240" cy="1360800"/>
            </a:xfrm>
            <a:prstGeom prst="bentConnector3">
              <a:avLst>
                <a:gd name="adj1" fmla="val -1457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" name=""/>
            <p:cNvSpPr/>
            <p:nvPr/>
          </p:nvSpPr>
          <p:spPr>
            <a:xfrm>
              <a:off x="4611600" y="19558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r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25640" y="1054080"/>
            <a:ext cx="5189760" cy="1498680"/>
            <a:chOff x="2825640" y="1054080"/>
            <a:chExt cx="5189760" cy="1498680"/>
          </a:xfrm>
        </p:grpSpPr>
        <p:sp>
          <p:nvSpPr>
            <p:cNvPr id="362" name=""/>
            <p:cNvSpPr/>
            <p:nvPr/>
          </p:nvSpPr>
          <p:spPr>
            <a:xfrm>
              <a:off x="4498920" y="1143000"/>
              <a:ext cx="225360" cy="20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825640" y="1460520"/>
              <a:ext cx="5189760" cy="1092240"/>
              <a:chOff x="2825640" y="1460520"/>
              <a:chExt cx="5189760" cy="1092240"/>
            </a:xfrm>
          </p:grpSpPr>
          <p:sp>
            <p:nvSpPr>
              <p:cNvPr id="364" name=""/>
              <p:cNvSpPr/>
              <p:nvPr/>
            </p:nvSpPr>
            <p:spPr>
              <a:xfrm>
                <a:off x="2825640" y="1473120"/>
                <a:ext cx="384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1460520"/>
                <a:ext cx="1328760" cy="10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755600" y="1054080"/>
              <a:ext cx="177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Page on backing 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16240" y="2862360"/>
            <a:ext cx="1927800" cy="1668600"/>
            <a:chOff x="6816240" y="2862360"/>
            <a:chExt cx="1927800" cy="1668600"/>
          </a:xfrm>
        </p:grpSpPr>
        <p:grpSp>
          <p:nvGrpSpPr>
            <p:cNvPr id="368" name=""/>
            <p:cNvGrpSpPr/>
            <p:nvPr/>
          </p:nvGrpSpPr>
          <p:grpSpPr>
            <a:xfrm>
              <a:off x="6816240" y="2862360"/>
              <a:ext cx="1259280" cy="1103040"/>
              <a:chOff x="6816240" y="2862360"/>
              <a:chExt cx="1259280" cy="1103040"/>
            </a:xfrm>
          </p:grpSpPr>
          <p:sp>
            <p:nvSpPr>
              <p:cNvPr id="369" name=""/>
              <p:cNvSpPr/>
              <p:nvPr/>
            </p:nvSpPr>
            <p:spPr>
              <a:xfrm>
                <a:off x="8075520" y="2862360"/>
                <a:ext cx="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816240" y="3965400"/>
                <a:ext cx="12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264440" y="4038480"/>
              <a:ext cx="225360" cy="20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02720" y="4254480"/>
              <a:ext cx="174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ring in missing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777760" y="2897280"/>
            <a:ext cx="2732040" cy="1785960"/>
            <a:chOff x="2777760" y="2897280"/>
            <a:chExt cx="2732040" cy="1785960"/>
          </a:xfrm>
        </p:grpSpPr>
        <p:sp>
          <p:nvSpPr>
            <p:cNvPr id="374" name=""/>
            <p:cNvSpPr/>
            <p:nvPr/>
          </p:nvSpPr>
          <p:spPr>
            <a:xfrm>
              <a:off x="4203720" y="2897280"/>
              <a:ext cx="179280" cy="2379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777760" y="4025880"/>
              <a:ext cx="27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78120" y="330192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790720" y="3075120"/>
              <a:ext cx="6177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17800" y="4130640"/>
              <a:ext cx="225720" cy="20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3800" y="4406760"/>
              <a:ext cx="137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set page 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018880" y="3029040"/>
            <a:ext cx="1389240" cy="719280"/>
            <a:chOff x="2018880" y="3029040"/>
            <a:chExt cx="1389240" cy="719280"/>
          </a:xfrm>
        </p:grpSpPr>
        <p:sp>
          <p:nvSpPr>
            <p:cNvPr id="381" name=""/>
            <p:cNvSpPr/>
            <p:nvPr/>
          </p:nvSpPr>
          <p:spPr>
            <a:xfrm flipH="1">
              <a:off x="2018880" y="3029040"/>
              <a:ext cx="138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5840" y="3048120"/>
              <a:ext cx="225360" cy="203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19600" y="328932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no free fr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replacement – find some page in memory, but not really in use, swap it o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– want an algorithm which will result in minimum number of page fa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page may be brought into memory several ti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of Demand P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mory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ge Fault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Fault Rate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no page fa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every reference is a faul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 Access Time (EA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T = (1 –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f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f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F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in p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79640" y="4483080"/>
            <a:ext cx="7416720" cy="1295280"/>
            <a:chOff x="1079640" y="4483080"/>
            <a:chExt cx="7416720" cy="1295280"/>
          </a:xfrm>
        </p:grpSpPr>
        <p:sp>
          <p:nvSpPr>
            <p:cNvPr id="389" name=""/>
            <p:cNvSpPr/>
            <p:nvPr/>
          </p:nvSpPr>
          <p:spPr>
            <a:xfrm>
              <a:off x="5016600" y="4559400"/>
              <a:ext cx="3479760" cy="774720"/>
            </a:xfrm>
            <a:prstGeom prst="ellipse">
              <a:avLst/>
            </a:prstGeom>
            <a:noFill/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veral hundred instr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~ 1-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759120" y="4736880"/>
              <a:ext cx="1270080" cy="215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683160" y="4978440"/>
              <a:ext cx="1333440" cy="5079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79640" y="4483080"/>
              <a:ext cx="2552400" cy="520560"/>
            </a:xfrm>
            <a:prstGeom prst="ellipse">
              <a:avLst/>
            </a:prstGeom>
            <a:noFill/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2240" y="5181480"/>
              <a:ext cx="2679840" cy="596880"/>
            </a:xfrm>
            <a:prstGeom prst="ellipse">
              <a:avLst/>
            </a:prstGeom>
            <a:noFill/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066680" y="3695760"/>
            <a:ext cx="8077320" cy="1752480"/>
            <a:chOff x="1066680" y="3695760"/>
            <a:chExt cx="8077320" cy="1752480"/>
          </a:xfrm>
        </p:grpSpPr>
        <p:sp>
          <p:nvSpPr>
            <p:cNvPr id="395" name=""/>
            <p:cNvSpPr/>
            <p:nvPr/>
          </p:nvSpPr>
          <p:spPr>
            <a:xfrm>
              <a:off x="5257800" y="3695760"/>
              <a:ext cx="3886200" cy="787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bout 25 m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781360" y="4127400"/>
              <a:ext cx="2527200" cy="952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6680" y="4826160"/>
              <a:ext cx="1994040" cy="6220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Paging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 =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t = 20msec = 20,00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T = (1-p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+ p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0000 = 1 + 19999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1/1000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AT  =~  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 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21 slower !!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want less than 10% degradation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 &gt; 1 + 19999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 &lt; 0.1/19999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 &lt; 0.000005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PF in 200,000 references !!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– in addition - 50% of the time the page that is being replaced has been modified and therefore needs to be swapped ou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T = (1 – p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+ 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0000 = 1 + 29999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memory allows other benefits during process creatio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py-on-Writ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emory-Mapped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-on-Write (COW) allows both parent and child processes to initiall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h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same pages in memor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either process modifies a shared page, only then is the page cop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W allows more efficient process creation as only modified pages are cop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ges are allocated from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zeroed-out p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-Mapped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-mapped file I/O allows file I/O to be treated as routine memory access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pp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disk block to a page in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ile is initially read using demand paging. A page-sized portion of the file is read from the file system into a physical page. Subsequent reads/writes to/from the file are treated as ordinary memory acc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es file access by treating file I/O through memory rather than read() write() system ca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allows several processes to map the same file allowing the pages in memory to be sha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Mapped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5867" t="1689" r="6487" b="1689"/>
          <a:stretch/>
        </p:blipFill>
        <p:spPr>
          <a:xfrm>
            <a:off x="1504800" y="1512720"/>
            <a:ext cx="5672160" cy="468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 over-allocation of memory by modifying page-fault service routine to include page replacem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dif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bit to reduce overhead of page transfers – only modified pages are written back to disk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replacement completes separation between logical memory and physical memory – large virtual memory can be provided on a smaller physical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page re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44600" y="1181160"/>
            <a:ext cx="453960" cy="1592280"/>
            <a:chOff x="444600" y="1181160"/>
            <a:chExt cx="453960" cy="1592280"/>
          </a:xfrm>
        </p:grpSpPr>
        <p:sp>
          <p:nvSpPr>
            <p:cNvPr id="412" name=""/>
            <p:cNvSpPr/>
            <p:nvPr/>
          </p:nvSpPr>
          <p:spPr>
            <a:xfrm>
              <a:off x="508680" y="15238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4600" y="11811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600" y="15796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600" y="19782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4600" y="23749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942840" y="1214280"/>
            <a:ext cx="873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42840" y="1612800"/>
            <a:ext cx="873360" cy="39708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ad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42840" y="2009880"/>
            <a:ext cx="873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42840" y="2408400"/>
            <a:ext cx="8733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978440" y="1397160"/>
            <a:ext cx="453960" cy="1592280"/>
            <a:chOff x="4978440" y="1397160"/>
            <a:chExt cx="453960" cy="1592280"/>
          </a:xfrm>
        </p:grpSpPr>
        <p:sp>
          <p:nvSpPr>
            <p:cNvPr id="422" name=""/>
            <p:cNvSpPr/>
            <p:nvPr/>
          </p:nvSpPr>
          <p:spPr>
            <a:xfrm>
              <a:off x="5042520" y="17398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78440" y="13971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8440" y="17956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78440" y="21942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78440" y="25909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69920" y="3589200"/>
            <a:ext cx="873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9920" y="3987720"/>
            <a:ext cx="873360" cy="39708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9920" y="4384800"/>
            <a:ext cx="8733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9920" y="4782960"/>
            <a:ext cx="8733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5640" y="285912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 us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7080" y="52848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 us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167652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207504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247320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6720" y="287028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33920" y="167652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207504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47320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287028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49640" y="45338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49323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49640" y="5330880"/>
            <a:ext cx="45396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49640" y="572760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06840" y="45338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06840" y="49323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06840" y="5330880"/>
            <a:ext cx="45396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06840" y="572760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8880" y="1405080"/>
            <a:ext cx="873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38880" y="22003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38880" y="259884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96880" y="3594240"/>
            <a:ext cx="453960" cy="1592280"/>
            <a:chOff x="596880" y="3594240"/>
            <a:chExt cx="453960" cy="1592280"/>
          </a:xfrm>
        </p:grpSpPr>
        <p:sp>
          <p:nvSpPr>
            <p:cNvPr id="453" name=""/>
            <p:cNvSpPr/>
            <p:nvPr/>
          </p:nvSpPr>
          <p:spPr>
            <a:xfrm>
              <a:off x="660960" y="393696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3594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6880" y="39927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6880" y="439128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6880" y="4788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965840" y="2984400"/>
            <a:ext cx="453960" cy="1592280"/>
            <a:chOff x="4965840" y="2984400"/>
            <a:chExt cx="453960" cy="1592280"/>
          </a:xfrm>
        </p:grpSpPr>
        <p:sp>
          <p:nvSpPr>
            <p:cNvPr id="459" name=""/>
            <p:cNvSpPr/>
            <p:nvPr/>
          </p:nvSpPr>
          <p:spPr>
            <a:xfrm>
              <a:off x="5029920" y="332712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65840" y="29844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65840" y="33829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65840" y="378144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65840" y="41781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438880" y="29923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ad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38880" y="3390840"/>
            <a:ext cx="87300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38880" y="3787920"/>
            <a:ext cx="87300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38880" y="41860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2106600">
            <a:off x="5346000" y="17125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20192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746840" y="3073320"/>
            <a:ext cx="41940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44080" y="42163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30680" y="33289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 us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59200" y="62247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 us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55840" y="466236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57480" y="21859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1000" y="93492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75920" y="103356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77" idx="2"/>
          </p:cNvCxnSpPr>
          <p:nvPr/>
        </p:nvCxnSpPr>
        <p:spPr>
          <a:xfrm flipH="1">
            <a:off x="3449160" y="127800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6" idx="2"/>
          </p:cNvCxnSpPr>
          <p:nvPr/>
        </p:nvCxnSpPr>
        <p:spPr>
          <a:xfrm flipH="1">
            <a:off x="3998520" y="133164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760560" y="383076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85480" y="392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</p:cNvCxnSpPr>
          <p:nvPr/>
        </p:nvCxnSpPr>
        <p:spPr>
          <a:xfrm flipH="1">
            <a:off x="3258720" y="417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80" idx="2"/>
          </p:cNvCxnSpPr>
          <p:nvPr/>
        </p:nvCxnSpPr>
        <p:spPr>
          <a:xfrm flipH="1">
            <a:off x="3808080" y="422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of Demand Pag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-Replacement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of Fram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 Seg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age Re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location of the desired page on disk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 free fram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f there is a free frame, use i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f there is no free frame, use a page replac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hm to select a victim fram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the desired page into the (newly) free frame. Update the page and frame table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art the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 -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251840" y="13334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31200" y="23875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28080" y="3543480"/>
            <a:ext cx="419040" cy="431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41480" y="1500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47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447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447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447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019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019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019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019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99280" y="41544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51480" y="1252440"/>
            <a:ext cx="873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51480" y="2048040"/>
            <a:ext cx="873000" cy="3981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51480" y="2446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22960" y="3174840"/>
            <a:ext cx="13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51480" y="284004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51480" y="323856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1480" y="36352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51480" y="403380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2106600">
            <a:off x="5358600" y="1560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68440" y="451008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68600" y="176040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93520" y="185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1" idx="2"/>
          </p:cNvCxnSpPr>
          <p:nvPr/>
        </p:nvCxnSpPr>
        <p:spPr>
          <a:xfrm flipH="1">
            <a:off x="2966760" y="210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10" idx="2"/>
          </p:cNvCxnSpPr>
          <p:nvPr/>
        </p:nvCxnSpPr>
        <p:spPr>
          <a:xfrm flipH="1">
            <a:off x="3516120" y="215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4" name=""/>
          <p:cNvGrpSpPr/>
          <p:nvPr/>
        </p:nvGrpSpPr>
        <p:grpSpPr>
          <a:xfrm>
            <a:off x="0" y="1752480"/>
            <a:ext cx="453960" cy="1592280"/>
            <a:chOff x="0" y="1752480"/>
            <a:chExt cx="453960" cy="1592280"/>
          </a:xfrm>
        </p:grpSpPr>
        <p:sp>
          <p:nvSpPr>
            <p:cNvPr id="515" name=""/>
            <p:cNvSpPr/>
            <p:nvPr/>
          </p:nvSpPr>
          <p:spPr>
            <a:xfrm>
              <a:off x="64080" y="209520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75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2151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254952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2946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98600" y="178596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8600" y="218448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600" y="2581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8600" y="29797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600" y="343044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067360" y="1206360"/>
            <a:ext cx="453960" cy="1592280"/>
            <a:chOff x="5067360" y="1206360"/>
            <a:chExt cx="453960" cy="1592280"/>
          </a:xfrm>
        </p:grpSpPr>
        <p:sp>
          <p:nvSpPr>
            <p:cNvPr id="526" name=""/>
            <p:cNvSpPr/>
            <p:nvPr/>
          </p:nvSpPr>
          <p:spPr>
            <a:xfrm>
              <a:off x="5131440" y="15490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7360" y="12063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67360" y="16048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67360" y="20034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67360" y="24001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054760" y="2793960"/>
            <a:ext cx="453960" cy="1592280"/>
            <a:chOff x="5054760" y="2793960"/>
            <a:chExt cx="453960" cy="1592280"/>
          </a:xfrm>
        </p:grpSpPr>
        <p:sp>
          <p:nvSpPr>
            <p:cNvPr id="532" name=""/>
            <p:cNvSpPr/>
            <p:nvPr/>
          </p:nvSpPr>
          <p:spPr>
            <a:xfrm>
              <a:off x="5118840" y="31366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54760" y="27939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54760" y="319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54760" y="35910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54760" y="39877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 – 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251840" y="13334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1200" y="23875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128080" y="3543480"/>
            <a:ext cx="419040" cy="431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341480" y="1500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447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447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447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447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019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019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019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019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99280" y="41544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51480" y="1252440"/>
            <a:ext cx="873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51480" y="2048040"/>
            <a:ext cx="873000" cy="3981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51480" y="2446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22960" y="3174840"/>
            <a:ext cx="13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51480" y="284004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51480" y="323856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51480" y="36352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51480" y="403380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106600">
            <a:off x="5358600" y="1560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68440" y="451008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68600" y="176040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93520" y="185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62" idx="2"/>
          </p:cNvCxnSpPr>
          <p:nvPr/>
        </p:nvCxnSpPr>
        <p:spPr>
          <a:xfrm flipH="1">
            <a:off x="2966760" y="210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1" idx="2"/>
          </p:cNvCxnSpPr>
          <p:nvPr/>
        </p:nvCxnSpPr>
        <p:spPr>
          <a:xfrm flipH="1">
            <a:off x="3516120" y="215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5" name=""/>
          <p:cNvGrpSpPr/>
          <p:nvPr/>
        </p:nvGrpSpPr>
        <p:grpSpPr>
          <a:xfrm>
            <a:off x="0" y="1752480"/>
            <a:ext cx="453960" cy="1592280"/>
            <a:chOff x="0" y="1752480"/>
            <a:chExt cx="453960" cy="1592280"/>
          </a:xfrm>
        </p:grpSpPr>
        <p:sp>
          <p:nvSpPr>
            <p:cNvPr id="566" name=""/>
            <p:cNvSpPr/>
            <p:nvPr/>
          </p:nvSpPr>
          <p:spPr>
            <a:xfrm>
              <a:off x="64080" y="209520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0" y="175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2151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254952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2946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498600" y="178596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8600" y="218448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8600" y="2581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8600" y="29797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8600" y="343044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067360" y="1206360"/>
            <a:ext cx="453960" cy="1592280"/>
            <a:chOff x="5067360" y="1206360"/>
            <a:chExt cx="453960" cy="1592280"/>
          </a:xfrm>
        </p:grpSpPr>
        <p:sp>
          <p:nvSpPr>
            <p:cNvPr id="577" name=""/>
            <p:cNvSpPr/>
            <p:nvPr/>
          </p:nvSpPr>
          <p:spPr>
            <a:xfrm>
              <a:off x="5131440" y="15490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67360" y="12063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67360" y="16048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7360" y="20034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67360" y="24001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054760" y="2793960"/>
            <a:ext cx="453960" cy="1592280"/>
            <a:chOff x="5054760" y="2793960"/>
            <a:chExt cx="453960" cy="1592280"/>
          </a:xfrm>
        </p:grpSpPr>
        <p:sp>
          <p:nvSpPr>
            <p:cNvPr id="583" name=""/>
            <p:cNvSpPr/>
            <p:nvPr/>
          </p:nvSpPr>
          <p:spPr>
            <a:xfrm>
              <a:off x="5118840" y="31366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54760" y="27939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54760" y="319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54760" y="35910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54760" y="39877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6337440" y="2552760"/>
            <a:ext cx="120636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54760" y="2730600"/>
            <a:ext cx="1562040" cy="660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0434800">
            <a:off x="6545520" y="2538000"/>
            <a:ext cx="6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 – 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51840" y="13334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28080" y="3543480"/>
            <a:ext cx="419040" cy="431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41480" y="1500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447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447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447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447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019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019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019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019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99280" y="41544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51480" y="1252440"/>
            <a:ext cx="873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51480" y="2048040"/>
            <a:ext cx="873000" cy="3981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1480" y="2446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22960" y="3174840"/>
            <a:ext cx="13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51480" y="284004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51480" y="323856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51480" y="36352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51480" y="403380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2106600">
            <a:off x="5358600" y="1560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68440" y="451008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68600" y="176040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3520" y="185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5" idx="2"/>
          </p:cNvCxnSpPr>
          <p:nvPr/>
        </p:nvCxnSpPr>
        <p:spPr>
          <a:xfrm flipH="1">
            <a:off x="2966760" y="210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4" idx="2"/>
          </p:cNvCxnSpPr>
          <p:nvPr/>
        </p:nvCxnSpPr>
        <p:spPr>
          <a:xfrm flipH="1">
            <a:off x="3516120" y="215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8" name=""/>
          <p:cNvGrpSpPr/>
          <p:nvPr/>
        </p:nvGrpSpPr>
        <p:grpSpPr>
          <a:xfrm>
            <a:off x="0" y="1752480"/>
            <a:ext cx="453960" cy="1592280"/>
            <a:chOff x="0" y="1752480"/>
            <a:chExt cx="453960" cy="1592280"/>
          </a:xfrm>
        </p:grpSpPr>
        <p:sp>
          <p:nvSpPr>
            <p:cNvPr id="619" name=""/>
            <p:cNvSpPr/>
            <p:nvPr/>
          </p:nvSpPr>
          <p:spPr>
            <a:xfrm>
              <a:off x="64080" y="209520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175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2151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254952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2946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98600" y="178596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8600" y="218448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8600" y="2581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9797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8600" y="343044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5067360" y="1206360"/>
            <a:ext cx="453960" cy="1592280"/>
            <a:chOff x="5067360" y="1206360"/>
            <a:chExt cx="453960" cy="1592280"/>
          </a:xfrm>
        </p:grpSpPr>
        <p:sp>
          <p:nvSpPr>
            <p:cNvPr id="630" name=""/>
            <p:cNvSpPr/>
            <p:nvPr/>
          </p:nvSpPr>
          <p:spPr>
            <a:xfrm>
              <a:off x="5131440" y="15490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67360" y="12063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67360" y="16048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7360" y="20034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67360" y="24001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054760" y="2793960"/>
            <a:ext cx="453960" cy="1592280"/>
            <a:chOff x="5054760" y="2793960"/>
            <a:chExt cx="453960" cy="1592280"/>
          </a:xfrm>
        </p:grpSpPr>
        <p:sp>
          <p:nvSpPr>
            <p:cNvPr id="636" name=""/>
            <p:cNvSpPr/>
            <p:nvPr/>
          </p:nvSpPr>
          <p:spPr>
            <a:xfrm>
              <a:off x="5118840" y="31366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54760" y="27939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54760" y="319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54760" y="35910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54760" y="39877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263760" y="2362320"/>
            <a:ext cx="584280" cy="67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337440" y="2552760"/>
            <a:ext cx="120636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31200" y="23875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 – step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51840" y="13334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31200" y="23875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128080" y="3543480"/>
            <a:ext cx="419040" cy="431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341480" y="1500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447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47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447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447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019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019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019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19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99280" y="41544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51480" y="1252440"/>
            <a:ext cx="873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51480" y="2048040"/>
            <a:ext cx="873000" cy="3981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51480" y="2446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22960" y="3174840"/>
            <a:ext cx="13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51480" y="284004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51480" y="323856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51480" y="36352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51480" y="403380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2106600">
            <a:off x="5358600" y="1560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68440" y="451008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468600" y="176040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93520" y="185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9" idx="2"/>
          </p:cNvCxnSpPr>
          <p:nvPr/>
        </p:nvCxnSpPr>
        <p:spPr>
          <a:xfrm flipH="1">
            <a:off x="2966760" y="210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68" idx="2"/>
          </p:cNvCxnSpPr>
          <p:nvPr/>
        </p:nvCxnSpPr>
        <p:spPr>
          <a:xfrm flipH="1">
            <a:off x="3516120" y="215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72" name=""/>
          <p:cNvGrpSpPr/>
          <p:nvPr/>
        </p:nvGrpSpPr>
        <p:grpSpPr>
          <a:xfrm>
            <a:off x="0" y="1752480"/>
            <a:ext cx="453960" cy="1592280"/>
            <a:chOff x="0" y="1752480"/>
            <a:chExt cx="453960" cy="1592280"/>
          </a:xfrm>
        </p:grpSpPr>
        <p:sp>
          <p:nvSpPr>
            <p:cNvPr id="673" name=""/>
            <p:cNvSpPr/>
            <p:nvPr/>
          </p:nvSpPr>
          <p:spPr>
            <a:xfrm>
              <a:off x="64080" y="209520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75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2151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254952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2946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8600" y="178596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8600" y="218448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8600" y="2581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8600" y="29797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38600" y="343044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067360" y="1206360"/>
            <a:ext cx="453960" cy="1592280"/>
            <a:chOff x="5067360" y="1206360"/>
            <a:chExt cx="453960" cy="1592280"/>
          </a:xfrm>
        </p:grpSpPr>
        <p:sp>
          <p:nvSpPr>
            <p:cNvPr id="684" name=""/>
            <p:cNvSpPr/>
            <p:nvPr/>
          </p:nvSpPr>
          <p:spPr>
            <a:xfrm>
              <a:off x="5131440" y="15490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67360" y="12063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67360" y="16048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67360" y="20034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67360" y="24001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054760" y="2793960"/>
            <a:ext cx="453960" cy="1592280"/>
            <a:chOff x="5054760" y="2793960"/>
            <a:chExt cx="453960" cy="1592280"/>
          </a:xfrm>
        </p:grpSpPr>
        <p:sp>
          <p:nvSpPr>
            <p:cNvPr id="690" name=""/>
            <p:cNvSpPr/>
            <p:nvPr/>
          </p:nvSpPr>
          <p:spPr>
            <a:xfrm>
              <a:off x="5118840" y="31366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4760" y="27939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54760" y="319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54760" y="35910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54760" y="39877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 flipV="1">
            <a:off x="6337440" y="2552760"/>
            <a:ext cx="120636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6298920" y="3187440"/>
            <a:ext cx="1803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replacement – step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251840" y="1333440"/>
            <a:ext cx="1511280" cy="308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1200" y="2387520"/>
            <a:ext cx="419040" cy="432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128080" y="3543480"/>
            <a:ext cx="419040" cy="431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41480" y="150012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447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447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447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447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01920" y="248904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1920" y="2887560"/>
            <a:ext cx="4539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01920" y="3286080"/>
            <a:ext cx="453960" cy="3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01920" y="3683160"/>
            <a:ext cx="453960" cy="39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699280" y="41544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51480" y="1252440"/>
            <a:ext cx="873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451480" y="2048040"/>
            <a:ext cx="873000" cy="39816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451480" y="2446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22960" y="3174840"/>
            <a:ext cx="13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51480" y="284004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51480" y="323856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51480" y="363528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51480" y="4033800"/>
            <a:ext cx="873000" cy="3985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106600">
            <a:off x="5358600" y="15602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68440" y="451008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68600" y="176040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93520" y="185904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"/>
          <p:cNvCxnSpPr>
            <a:stCxn id="722" idx="2"/>
          </p:cNvCxnSpPr>
          <p:nvPr/>
        </p:nvCxnSpPr>
        <p:spPr>
          <a:xfrm flipH="1">
            <a:off x="2966760" y="210348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2"/>
          </p:cNvCxnSpPr>
          <p:nvPr/>
        </p:nvCxnSpPr>
        <p:spPr>
          <a:xfrm flipH="1">
            <a:off x="3516120" y="2157120"/>
            <a:ext cx="47376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25" name=""/>
          <p:cNvGrpSpPr/>
          <p:nvPr/>
        </p:nvGrpSpPr>
        <p:grpSpPr>
          <a:xfrm>
            <a:off x="0" y="1752480"/>
            <a:ext cx="453960" cy="1592280"/>
            <a:chOff x="0" y="1752480"/>
            <a:chExt cx="453960" cy="1592280"/>
          </a:xfrm>
        </p:grpSpPr>
        <p:sp>
          <p:nvSpPr>
            <p:cNvPr id="726" name=""/>
            <p:cNvSpPr/>
            <p:nvPr/>
          </p:nvSpPr>
          <p:spPr>
            <a:xfrm>
              <a:off x="64080" y="209520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175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215100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254952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294624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498600" y="178596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8600" y="2184480"/>
            <a:ext cx="87300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600" y="258120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8600" y="2979720"/>
            <a:ext cx="873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8600" y="343044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067360" y="1206360"/>
            <a:ext cx="453960" cy="1592280"/>
            <a:chOff x="5067360" y="1206360"/>
            <a:chExt cx="453960" cy="1592280"/>
          </a:xfrm>
        </p:grpSpPr>
        <p:sp>
          <p:nvSpPr>
            <p:cNvPr id="737" name=""/>
            <p:cNvSpPr/>
            <p:nvPr/>
          </p:nvSpPr>
          <p:spPr>
            <a:xfrm>
              <a:off x="5131440" y="15490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67360" y="12063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67360" y="16048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67360" y="20034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67360" y="24001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054760" y="2793960"/>
            <a:ext cx="453960" cy="1592280"/>
            <a:chOff x="5054760" y="2793960"/>
            <a:chExt cx="453960" cy="1592280"/>
          </a:xfrm>
        </p:grpSpPr>
        <p:sp>
          <p:nvSpPr>
            <p:cNvPr id="743" name=""/>
            <p:cNvSpPr/>
            <p:nvPr/>
          </p:nvSpPr>
          <p:spPr>
            <a:xfrm>
              <a:off x="5118840" y="3136680"/>
              <a:ext cx="1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54760" y="279396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54760" y="319248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4760" y="3591000"/>
              <a:ext cx="45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54760" y="3987720"/>
              <a:ext cx="45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6337440" y="2552760"/>
            <a:ext cx="120636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6298920" y="3187440"/>
            <a:ext cx="1803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92440" y="3263760"/>
            <a:ext cx="11682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-Replacem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lowest page-fault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algorithm by running it on a particular string of memory references (reference string) and computing the number of page faults on that st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ll our examples, the reference string 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 2, 3, 4, 1, 2, 5, 1, 2, 3, 4, 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of Page Faults Versus The Number of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rcRect l="2743" t="12727" r="1290" b="12071"/>
          <a:stretch/>
        </p:blipFill>
        <p:spPr>
          <a:xfrm>
            <a:off x="330120" y="1316160"/>
            <a:ext cx="7921800" cy="4654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21752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4276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7016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9540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32244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4948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7508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212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2916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440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8180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0884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397160" y="1523880"/>
            <a:ext cx="291960" cy="1041480"/>
            <a:chOff x="1397160" y="1523880"/>
            <a:chExt cx="291960" cy="1041480"/>
          </a:xfrm>
        </p:grpSpPr>
        <p:sp>
          <p:nvSpPr>
            <p:cNvPr id="768" name=""/>
            <p:cNvSpPr/>
            <p:nvPr/>
          </p:nvSpPr>
          <p:spPr>
            <a:xfrm>
              <a:off x="139716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9716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9716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933560" y="1523880"/>
            <a:ext cx="291960" cy="1041480"/>
            <a:chOff x="1933560" y="1523880"/>
            <a:chExt cx="291960" cy="1041480"/>
          </a:xfrm>
        </p:grpSpPr>
        <p:sp>
          <p:nvSpPr>
            <p:cNvPr id="772" name=""/>
            <p:cNvSpPr/>
            <p:nvPr/>
          </p:nvSpPr>
          <p:spPr>
            <a:xfrm>
              <a:off x="193356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3356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3356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470320" y="1523880"/>
            <a:ext cx="291960" cy="1041480"/>
            <a:chOff x="2470320" y="1523880"/>
            <a:chExt cx="291960" cy="1041480"/>
          </a:xfrm>
        </p:grpSpPr>
        <p:sp>
          <p:nvSpPr>
            <p:cNvPr id="776" name=""/>
            <p:cNvSpPr/>
            <p:nvPr/>
          </p:nvSpPr>
          <p:spPr>
            <a:xfrm>
              <a:off x="247032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7032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7032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006720" y="1523880"/>
            <a:ext cx="291960" cy="1041480"/>
            <a:chOff x="3006720" y="1523880"/>
            <a:chExt cx="291960" cy="1041480"/>
          </a:xfrm>
        </p:grpSpPr>
        <p:sp>
          <p:nvSpPr>
            <p:cNvPr id="780" name=""/>
            <p:cNvSpPr/>
            <p:nvPr/>
          </p:nvSpPr>
          <p:spPr>
            <a:xfrm>
              <a:off x="300672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0672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0672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3543480" y="1523880"/>
            <a:ext cx="291960" cy="1041480"/>
            <a:chOff x="3543480" y="1523880"/>
            <a:chExt cx="291960" cy="1041480"/>
          </a:xfrm>
        </p:grpSpPr>
        <p:sp>
          <p:nvSpPr>
            <p:cNvPr id="784" name=""/>
            <p:cNvSpPr/>
            <p:nvPr/>
          </p:nvSpPr>
          <p:spPr>
            <a:xfrm>
              <a:off x="354348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4348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4348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079880" y="1523880"/>
            <a:ext cx="291960" cy="1041480"/>
            <a:chOff x="4079880" y="1523880"/>
            <a:chExt cx="291960" cy="1041480"/>
          </a:xfrm>
        </p:grpSpPr>
        <p:sp>
          <p:nvSpPr>
            <p:cNvPr id="788" name=""/>
            <p:cNvSpPr/>
            <p:nvPr/>
          </p:nvSpPr>
          <p:spPr>
            <a:xfrm>
              <a:off x="407988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7988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7988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18080" y="1523880"/>
            <a:ext cx="291960" cy="1041480"/>
            <a:chOff x="4618080" y="1523880"/>
            <a:chExt cx="291960" cy="1041480"/>
          </a:xfrm>
        </p:grpSpPr>
        <p:sp>
          <p:nvSpPr>
            <p:cNvPr id="792" name=""/>
            <p:cNvSpPr/>
            <p:nvPr/>
          </p:nvSpPr>
          <p:spPr>
            <a:xfrm>
              <a:off x="461808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1808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1808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227640" y="1523880"/>
            <a:ext cx="292320" cy="1041480"/>
            <a:chOff x="6227640" y="1523880"/>
            <a:chExt cx="292320" cy="1041480"/>
          </a:xfrm>
        </p:grpSpPr>
        <p:sp>
          <p:nvSpPr>
            <p:cNvPr id="796" name=""/>
            <p:cNvSpPr/>
            <p:nvPr/>
          </p:nvSpPr>
          <p:spPr>
            <a:xfrm>
              <a:off x="6227640" y="15238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27640" y="1892160"/>
              <a:ext cx="29232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27640" y="22860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764400" y="1523880"/>
            <a:ext cx="291960" cy="1041480"/>
            <a:chOff x="6764400" y="1523880"/>
            <a:chExt cx="291960" cy="1041480"/>
          </a:xfrm>
        </p:grpSpPr>
        <p:sp>
          <p:nvSpPr>
            <p:cNvPr id="800" name=""/>
            <p:cNvSpPr/>
            <p:nvPr/>
          </p:nvSpPr>
          <p:spPr>
            <a:xfrm>
              <a:off x="6764400" y="152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64400" y="189216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64400" y="22860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00880" y="1803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" y="4140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549440" y="3822840"/>
            <a:ext cx="304920" cy="1511280"/>
            <a:chOff x="1549440" y="3822840"/>
            <a:chExt cx="304920" cy="1511280"/>
          </a:xfrm>
        </p:grpSpPr>
        <p:sp>
          <p:nvSpPr>
            <p:cNvPr id="806" name=""/>
            <p:cNvSpPr/>
            <p:nvPr/>
          </p:nvSpPr>
          <p:spPr>
            <a:xfrm>
              <a:off x="1562040" y="38228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2040" y="4191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2040" y="45846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49440" y="505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085840" y="3822840"/>
            <a:ext cx="304920" cy="1511280"/>
            <a:chOff x="2085840" y="3822840"/>
            <a:chExt cx="304920" cy="1511280"/>
          </a:xfrm>
        </p:grpSpPr>
        <p:sp>
          <p:nvSpPr>
            <p:cNvPr id="811" name=""/>
            <p:cNvSpPr/>
            <p:nvPr/>
          </p:nvSpPr>
          <p:spPr>
            <a:xfrm>
              <a:off x="2098800" y="38228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98800" y="4191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98800" y="45846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8584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622600" y="3822840"/>
            <a:ext cx="304920" cy="1511280"/>
            <a:chOff x="2622600" y="3822840"/>
            <a:chExt cx="304920" cy="1511280"/>
          </a:xfrm>
        </p:grpSpPr>
        <p:sp>
          <p:nvSpPr>
            <p:cNvPr id="816" name=""/>
            <p:cNvSpPr/>
            <p:nvPr/>
          </p:nvSpPr>
          <p:spPr>
            <a:xfrm>
              <a:off x="2635200" y="38228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5200" y="4191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35200" y="45846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22600" y="505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3159000" y="3822840"/>
            <a:ext cx="304920" cy="1511280"/>
            <a:chOff x="3159000" y="3822840"/>
            <a:chExt cx="304920" cy="1511280"/>
          </a:xfrm>
        </p:grpSpPr>
        <p:sp>
          <p:nvSpPr>
            <p:cNvPr id="821" name=""/>
            <p:cNvSpPr/>
            <p:nvPr/>
          </p:nvSpPr>
          <p:spPr>
            <a:xfrm>
              <a:off x="3171960" y="38228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71960" y="4191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71960" y="45846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5900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770360" y="3822840"/>
            <a:ext cx="304920" cy="1511280"/>
            <a:chOff x="4770360" y="3822840"/>
            <a:chExt cx="304920" cy="1511280"/>
          </a:xfrm>
        </p:grpSpPr>
        <p:sp>
          <p:nvSpPr>
            <p:cNvPr id="826" name=""/>
            <p:cNvSpPr/>
            <p:nvPr/>
          </p:nvSpPr>
          <p:spPr>
            <a:xfrm>
              <a:off x="4782960" y="38228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82960" y="4191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5846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77036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380280" y="3822840"/>
            <a:ext cx="304560" cy="1511280"/>
            <a:chOff x="6380280" y="3822840"/>
            <a:chExt cx="304560" cy="1511280"/>
          </a:xfrm>
        </p:grpSpPr>
        <p:sp>
          <p:nvSpPr>
            <p:cNvPr id="831" name=""/>
            <p:cNvSpPr/>
            <p:nvPr/>
          </p:nvSpPr>
          <p:spPr>
            <a:xfrm>
              <a:off x="6392880" y="38228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392880" y="4191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2880" y="45846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80280" y="505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916680" y="3822840"/>
            <a:ext cx="304920" cy="1511280"/>
            <a:chOff x="6916680" y="3822840"/>
            <a:chExt cx="304920" cy="1511280"/>
          </a:xfrm>
        </p:grpSpPr>
        <p:sp>
          <p:nvSpPr>
            <p:cNvPr id="836" name=""/>
            <p:cNvSpPr/>
            <p:nvPr/>
          </p:nvSpPr>
          <p:spPr>
            <a:xfrm>
              <a:off x="6929280" y="38228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29280" y="4191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29280" y="45846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1668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253120" y="3822840"/>
            <a:ext cx="304560" cy="1511280"/>
            <a:chOff x="5253120" y="3822840"/>
            <a:chExt cx="304560" cy="1511280"/>
          </a:xfrm>
        </p:grpSpPr>
        <p:sp>
          <p:nvSpPr>
            <p:cNvPr id="841" name=""/>
            <p:cNvSpPr/>
            <p:nvPr/>
          </p:nvSpPr>
          <p:spPr>
            <a:xfrm>
              <a:off x="5265720" y="38228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65720" y="4191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65720" y="45846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3120" y="505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773680" y="3822840"/>
            <a:ext cx="304920" cy="1511280"/>
            <a:chOff x="5773680" y="3822840"/>
            <a:chExt cx="304920" cy="1511280"/>
          </a:xfrm>
        </p:grpSpPr>
        <p:sp>
          <p:nvSpPr>
            <p:cNvPr id="846" name=""/>
            <p:cNvSpPr/>
            <p:nvPr/>
          </p:nvSpPr>
          <p:spPr>
            <a:xfrm>
              <a:off x="5786280" y="38228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86280" y="4191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86280" y="45846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7368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7475400" y="3822840"/>
            <a:ext cx="304920" cy="1511280"/>
            <a:chOff x="7475400" y="3822840"/>
            <a:chExt cx="304920" cy="1511280"/>
          </a:xfrm>
        </p:grpSpPr>
        <p:sp>
          <p:nvSpPr>
            <p:cNvPr id="851" name=""/>
            <p:cNvSpPr/>
            <p:nvPr/>
          </p:nvSpPr>
          <p:spPr>
            <a:xfrm>
              <a:off x="7488360" y="38228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88360" y="4191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88360" y="45846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75400" y="5054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293840" y="3301920"/>
            <a:ext cx="6086160" cy="368280"/>
            <a:chOff x="1293840" y="3301920"/>
            <a:chExt cx="6086160" cy="368280"/>
          </a:xfrm>
        </p:grpSpPr>
        <p:sp>
          <p:nvSpPr>
            <p:cNvPr id="856" name=""/>
            <p:cNvSpPr/>
            <p:nvPr/>
          </p:nvSpPr>
          <p:spPr>
            <a:xfrm>
              <a:off x="129384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908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4612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7172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9876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2580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5104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7844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0548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3072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5776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84800" y="3301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838080" y="5554800"/>
            <a:ext cx="7721640" cy="862560"/>
            <a:chOff x="838080" y="5554800"/>
            <a:chExt cx="7721640" cy="862560"/>
          </a:xfrm>
        </p:grpSpPr>
        <p:sp>
          <p:nvSpPr>
            <p:cNvPr id="869" name=""/>
            <p:cNvSpPr/>
            <p:nvPr/>
          </p:nvSpPr>
          <p:spPr>
            <a:xfrm>
              <a:off x="838080" y="5554800"/>
              <a:ext cx="772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IFO Replace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Belady’s Anoma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ffcc00"/>
                </a:buClr>
                <a:buFont typeface="Monotype Sorts" charset="2"/>
                <a:buChar char="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re frames 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less page fa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3155760" y="6016680"/>
              <a:ext cx="15228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8020440" y="15652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222760" y="428292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-In-First-Out (FIFO)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O Illustrating Belady’s Anamo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rcRect l="1106" t="8435" r="3176" b="9083"/>
          <a:stretch/>
        </p:blipFill>
        <p:spPr>
          <a:xfrm>
            <a:off x="1122480" y="1208160"/>
            <a:ext cx="7596000" cy="490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irtual mem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separation of user logical memory from physical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gram needs to be in memory for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ddress space can therefore be much larger than physical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allow pages to be swapped in an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memory can be implemented v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m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mand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5240" y="101556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page tha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ll not be used for longest period of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frames examp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549440" y="2832120"/>
            <a:ext cx="304920" cy="1511280"/>
            <a:chOff x="1549440" y="2832120"/>
            <a:chExt cx="304920" cy="1511280"/>
          </a:xfrm>
        </p:grpSpPr>
        <p:sp>
          <p:nvSpPr>
            <p:cNvPr id="879" name=""/>
            <p:cNvSpPr/>
            <p:nvPr/>
          </p:nvSpPr>
          <p:spPr>
            <a:xfrm>
              <a:off x="1562040" y="2832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62040" y="32004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62040" y="35938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49440" y="4064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085840" y="2832120"/>
            <a:ext cx="304920" cy="1511280"/>
            <a:chOff x="2085840" y="2832120"/>
            <a:chExt cx="304920" cy="1511280"/>
          </a:xfrm>
        </p:grpSpPr>
        <p:sp>
          <p:nvSpPr>
            <p:cNvPr id="884" name=""/>
            <p:cNvSpPr/>
            <p:nvPr/>
          </p:nvSpPr>
          <p:spPr>
            <a:xfrm>
              <a:off x="2098800" y="2832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98800" y="3200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8800" y="359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85840" y="40640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622600" y="2832120"/>
            <a:ext cx="304920" cy="1511280"/>
            <a:chOff x="2622600" y="2832120"/>
            <a:chExt cx="304920" cy="1511280"/>
          </a:xfrm>
        </p:grpSpPr>
        <p:sp>
          <p:nvSpPr>
            <p:cNvPr id="889" name=""/>
            <p:cNvSpPr/>
            <p:nvPr/>
          </p:nvSpPr>
          <p:spPr>
            <a:xfrm>
              <a:off x="2635200" y="2832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35200" y="32004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635200" y="35938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622600" y="4064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159000" y="2832120"/>
            <a:ext cx="304920" cy="1511280"/>
            <a:chOff x="3159000" y="2832120"/>
            <a:chExt cx="304920" cy="1511280"/>
          </a:xfrm>
        </p:grpSpPr>
        <p:sp>
          <p:nvSpPr>
            <p:cNvPr id="894" name=""/>
            <p:cNvSpPr/>
            <p:nvPr/>
          </p:nvSpPr>
          <p:spPr>
            <a:xfrm>
              <a:off x="3171960" y="2832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71960" y="3200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171960" y="35938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59000" y="40640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770360" y="2832120"/>
            <a:ext cx="304920" cy="1511280"/>
            <a:chOff x="4770360" y="2832120"/>
            <a:chExt cx="304920" cy="1511280"/>
          </a:xfrm>
        </p:grpSpPr>
        <p:sp>
          <p:nvSpPr>
            <p:cNvPr id="899" name=""/>
            <p:cNvSpPr/>
            <p:nvPr/>
          </p:nvSpPr>
          <p:spPr>
            <a:xfrm>
              <a:off x="4782960" y="2832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82960" y="32004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82960" y="35938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70360" y="40640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916680" y="2832120"/>
            <a:ext cx="304920" cy="1511280"/>
            <a:chOff x="6916680" y="2832120"/>
            <a:chExt cx="304920" cy="1511280"/>
          </a:xfrm>
        </p:grpSpPr>
        <p:sp>
          <p:nvSpPr>
            <p:cNvPr id="904" name=""/>
            <p:cNvSpPr/>
            <p:nvPr/>
          </p:nvSpPr>
          <p:spPr>
            <a:xfrm>
              <a:off x="6929280" y="28321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29280" y="32004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29280" y="35938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16680" y="40640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293840" y="2311560"/>
            <a:ext cx="6086160" cy="368280"/>
            <a:chOff x="1293840" y="2311560"/>
            <a:chExt cx="6086160" cy="368280"/>
          </a:xfrm>
        </p:grpSpPr>
        <p:sp>
          <p:nvSpPr>
            <p:cNvPr id="909" name=""/>
            <p:cNvSpPr/>
            <p:nvPr/>
          </p:nvSpPr>
          <p:spPr>
            <a:xfrm>
              <a:off x="129384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1908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4612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7172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876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580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5104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7844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0548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3072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5776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084800" y="2311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533520" y="5270400"/>
            <a:ext cx="7213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be implemented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for measuring how well your algorithm per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50640" y="32796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st Recently Used (LRU)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string:  1, 2, 3, 4, 1, 2, 5, 1, 2, 3, 4, 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9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c0c0c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255680" y="1650960"/>
            <a:ext cx="6086160" cy="368280"/>
            <a:chOff x="1255680" y="1650960"/>
            <a:chExt cx="6086160" cy="368280"/>
          </a:xfrm>
        </p:grpSpPr>
        <p:sp>
          <p:nvSpPr>
            <p:cNvPr id="926" name=""/>
            <p:cNvSpPr/>
            <p:nvPr/>
          </p:nvSpPr>
          <p:spPr>
            <a:xfrm>
              <a:off x="125568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8092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0796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3356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060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8764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1288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4028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6732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9256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1960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46640" y="1650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8147520" y="26193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 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03320" y="3263760"/>
            <a:ext cx="679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23880" y="2146320"/>
            <a:ext cx="291960" cy="1396800"/>
            <a:chOff x="1523880" y="2146320"/>
            <a:chExt cx="291960" cy="1396800"/>
          </a:xfrm>
        </p:grpSpPr>
        <p:sp>
          <p:nvSpPr>
            <p:cNvPr id="941" name=""/>
            <p:cNvSpPr/>
            <p:nvPr/>
          </p:nvSpPr>
          <p:spPr>
            <a:xfrm>
              <a:off x="152388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2388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2388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2388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388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66760" y="2146320"/>
            <a:ext cx="291960" cy="1396800"/>
            <a:chOff x="2066760" y="2146320"/>
            <a:chExt cx="291960" cy="1396800"/>
          </a:xfrm>
        </p:grpSpPr>
        <p:sp>
          <p:nvSpPr>
            <p:cNvPr id="947" name=""/>
            <p:cNvSpPr/>
            <p:nvPr/>
          </p:nvSpPr>
          <p:spPr>
            <a:xfrm>
              <a:off x="206676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6676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6676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6676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6676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2610000" y="2146320"/>
            <a:ext cx="291960" cy="1396800"/>
            <a:chOff x="2610000" y="2146320"/>
            <a:chExt cx="291960" cy="1396800"/>
          </a:xfrm>
        </p:grpSpPr>
        <p:sp>
          <p:nvSpPr>
            <p:cNvPr id="953" name=""/>
            <p:cNvSpPr/>
            <p:nvPr/>
          </p:nvSpPr>
          <p:spPr>
            <a:xfrm>
              <a:off x="261000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1000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1000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1000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000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152880" y="2146320"/>
            <a:ext cx="291960" cy="1396800"/>
            <a:chOff x="3152880" y="2146320"/>
            <a:chExt cx="291960" cy="1396800"/>
          </a:xfrm>
        </p:grpSpPr>
        <p:sp>
          <p:nvSpPr>
            <p:cNvPr id="959" name=""/>
            <p:cNvSpPr/>
            <p:nvPr/>
          </p:nvSpPr>
          <p:spPr>
            <a:xfrm>
              <a:off x="315288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5288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15288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5288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5288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4782960" y="2146320"/>
            <a:ext cx="291960" cy="1396800"/>
            <a:chOff x="4782960" y="2146320"/>
            <a:chExt cx="291960" cy="1396800"/>
          </a:xfrm>
        </p:grpSpPr>
        <p:sp>
          <p:nvSpPr>
            <p:cNvPr id="965" name=""/>
            <p:cNvSpPr/>
            <p:nvPr/>
          </p:nvSpPr>
          <p:spPr>
            <a:xfrm>
              <a:off x="478296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8296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8296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296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8296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6956280" y="2146320"/>
            <a:ext cx="291960" cy="1396800"/>
            <a:chOff x="6956280" y="2146320"/>
            <a:chExt cx="291960" cy="1396800"/>
          </a:xfrm>
        </p:grpSpPr>
        <p:sp>
          <p:nvSpPr>
            <p:cNvPr id="971" name=""/>
            <p:cNvSpPr/>
            <p:nvPr/>
          </p:nvSpPr>
          <p:spPr>
            <a:xfrm>
              <a:off x="695628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5628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5628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5628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95628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6413400" y="2146320"/>
            <a:ext cx="291960" cy="1396800"/>
            <a:chOff x="6413400" y="2146320"/>
            <a:chExt cx="291960" cy="1396800"/>
          </a:xfrm>
        </p:grpSpPr>
        <p:sp>
          <p:nvSpPr>
            <p:cNvPr id="977" name=""/>
            <p:cNvSpPr/>
            <p:nvPr/>
          </p:nvSpPr>
          <p:spPr>
            <a:xfrm>
              <a:off x="641340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41340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41340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41340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41340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500960" y="2146320"/>
            <a:ext cx="291960" cy="1396800"/>
            <a:chOff x="7500960" y="2146320"/>
            <a:chExt cx="291960" cy="1396800"/>
          </a:xfrm>
        </p:grpSpPr>
        <p:sp>
          <p:nvSpPr>
            <p:cNvPr id="983" name=""/>
            <p:cNvSpPr/>
            <p:nvPr/>
          </p:nvSpPr>
          <p:spPr>
            <a:xfrm>
              <a:off x="750096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0096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0096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00960" y="2984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00960" y="3263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697200" y="2146320"/>
            <a:ext cx="291960" cy="1397160"/>
            <a:chOff x="3697200" y="2146320"/>
            <a:chExt cx="291960" cy="1397160"/>
          </a:xfrm>
        </p:grpSpPr>
        <p:sp>
          <p:nvSpPr>
            <p:cNvPr id="989" name=""/>
            <p:cNvSpPr/>
            <p:nvPr/>
          </p:nvSpPr>
          <p:spPr>
            <a:xfrm>
              <a:off x="369720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9720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97200" y="270504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97200" y="298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697200" y="3264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240080" y="2146320"/>
            <a:ext cx="292320" cy="1396800"/>
            <a:chOff x="4240080" y="2146320"/>
            <a:chExt cx="292320" cy="1396800"/>
          </a:xfrm>
        </p:grpSpPr>
        <p:sp>
          <p:nvSpPr>
            <p:cNvPr id="995" name=""/>
            <p:cNvSpPr/>
            <p:nvPr/>
          </p:nvSpPr>
          <p:spPr>
            <a:xfrm>
              <a:off x="4240080" y="214632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40080" y="242568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40080" y="270504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0080" y="298440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40080" y="3263760"/>
              <a:ext cx="29232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326200" y="2146320"/>
            <a:ext cx="291960" cy="1397160"/>
            <a:chOff x="5326200" y="2146320"/>
            <a:chExt cx="291960" cy="1397160"/>
          </a:xfrm>
        </p:grpSpPr>
        <p:sp>
          <p:nvSpPr>
            <p:cNvPr id="1001" name=""/>
            <p:cNvSpPr/>
            <p:nvPr/>
          </p:nvSpPr>
          <p:spPr>
            <a:xfrm>
              <a:off x="532620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26200" y="242568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26200" y="270504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26200" y="298440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26200" y="3264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870520" y="2146320"/>
            <a:ext cx="291960" cy="1397160"/>
            <a:chOff x="5870520" y="2146320"/>
            <a:chExt cx="291960" cy="1397160"/>
          </a:xfrm>
        </p:grpSpPr>
        <p:sp>
          <p:nvSpPr>
            <p:cNvPr id="1007" name=""/>
            <p:cNvSpPr/>
            <p:nvPr/>
          </p:nvSpPr>
          <p:spPr>
            <a:xfrm>
              <a:off x="5870520" y="21463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70520" y="2425680"/>
              <a:ext cx="291960" cy="2797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70520" y="270540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70520" y="298476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70520" y="3264120"/>
              <a:ext cx="291960" cy="27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496520" y="3594240"/>
            <a:ext cx="6328080" cy="368280"/>
            <a:chOff x="1496520" y="3594240"/>
            <a:chExt cx="6328080" cy="368280"/>
          </a:xfrm>
        </p:grpSpPr>
        <p:sp>
          <p:nvSpPr>
            <p:cNvPr id="1013" name=""/>
            <p:cNvSpPr/>
            <p:nvPr/>
          </p:nvSpPr>
          <p:spPr>
            <a:xfrm>
              <a:off x="149652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4444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9344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14100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688560" y="35942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38280" y="35942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548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334840" y="35942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884200" y="359424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3212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8112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529400" y="359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276480" y="368136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fa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73000" y="2014560"/>
            <a:ext cx="29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5440" y="24620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U Algorithm -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page entry has a counter; every time page is referenced through this entry, copy the clock into the cou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age needs to be changed, look at the counters to determine which are to change – the small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xpensiv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 implementation – keep a stack of page numbers in a double link for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referenc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ove it to the top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equires 6 pointers to be changed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rch for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U Approximation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04840" y="926640"/>
            <a:ext cx="702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page associate a bit, initiall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age is referenced bit set t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e one which is 0 (if one exist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not know the order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ch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reference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repla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to be replaced (in clock order) has reference bit = 1. 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et reference bit 0.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leave page in memory (that’s the 2</a:t>
            </a:r>
            <a:r>
              <a:rPr b="1" lang="en-US" sz="1600" spc="-1" strike="noStrike" baseline="30000">
                <a:solidFill>
                  <a:srgbClr val="80808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chance…)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replace next page (in clock order), subject to same rul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" descr=""/>
          <p:cNvPicPr/>
          <p:nvPr/>
        </p:nvPicPr>
        <p:blipFill>
          <a:blip r:embed="rId1"/>
          <a:srcRect l="9109" t="1374" r="8961" b="1339"/>
          <a:stretch/>
        </p:blipFill>
        <p:spPr>
          <a:xfrm>
            <a:off x="1876320" y="1106640"/>
            <a:ext cx="5311800" cy="473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ce (clock) Page-Replacement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a counter of the number of references that have been made to each p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FU (Least Frequently Used) Algorithm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s page with smallest 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FU (Most Frequently Used) Algorithm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argument that the page with the smallest count was probably just brought in and has yet to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buffer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l of free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wait for page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y write modified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the modified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page/frame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sav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VAX, where page replacement is 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of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rocess needs minimum number of p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 IBM 370 – 6 pages to handle SS MOVE instruc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is 6 bytes, might span 2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major allocation sche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047240" y="12193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 allocation – e.g., if 100 frames and 5 processes, give each 20 p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al allocation – Allocate according to the size of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76520" y="2619360"/>
                <a:ext cx="2755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ze of proces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number of frame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llocation for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1447920" y="26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47920" y="3076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7920" y="34574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3914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191120" y="4191120"/>
                <a:ext cx="167616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 proportional allocation scheme using priorities rather than siz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es a page faul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or replacement one of its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or replacement a frame from a process with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t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That is Larger Than Physic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3485" t="993" r="3485" b="1453"/>
          <a:stretch/>
        </p:blipFill>
        <p:spPr>
          <a:xfrm>
            <a:off x="228600" y="1104840"/>
            <a:ext cx="8039160" cy="533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number of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frame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igher page-fault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number of frames is defined by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+ memory reference + 1 level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MVC (Move Character)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pcode – 6 bytes  (2 pages)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ource – 256 bytes (2 pages)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stination – 256 bytes (2 pages)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otal:   6 frames…. (what if less)?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st cases: multiple indirection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vs. Local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replacement – process selects a replacement frame from the set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s; one process can take a frame from an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replacement – each process selects from onl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ts ow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t of allocated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ash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process is busy swapping pages in and o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rocess does not have “enough” pages, the page-fault rate is very high.  This leads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PU u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thinks that it needs to increase the degree of multiprogram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process added to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79360" y="5143680"/>
            <a:ext cx="22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w CPU uti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396800" y="3859200"/>
            <a:ext cx="3718080" cy="1284480"/>
            <a:chOff x="1396800" y="3859200"/>
            <a:chExt cx="3718080" cy="1284480"/>
          </a:xfrm>
        </p:grpSpPr>
        <p:sp>
          <p:nvSpPr>
            <p:cNvPr id="1058" name=""/>
            <p:cNvSpPr/>
            <p:nvPr/>
          </p:nvSpPr>
          <p:spPr>
            <a:xfrm>
              <a:off x="3457440" y="3859200"/>
              <a:ext cx="165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crease multiprogramming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6" idx="0"/>
              <a:endCxn id="1058" idx="1"/>
            </p:cNvCxnSpPr>
            <p:nvPr/>
          </p:nvCxnSpPr>
          <p:spPr>
            <a:xfrm flipH="1" flipV="1" rot="5400000">
              <a:off x="1967040" y="3653280"/>
              <a:ext cx="920160" cy="206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60" name=""/>
          <p:cNvGrpSpPr/>
          <p:nvPr/>
        </p:nvGrpSpPr>
        <p:grpSpPr>
          <a:xfrm>
            <a:off x="5114520" y="4224240"/>
            <a:ext cx="3788280" cy="1150200"/>
            <a:chOff x="5114520" y="4224240"/>
            <a:chExt cx="3788280" cy="1150200"/>
          </a:xfrm>
        </p:grpSpPr>
        <p:sp>
          <p:nvSpPr>
            <p:cNvPr id="1061" name=""/>
            <p:cNvSpPr/>
            <p:nvPr/>
          </p:nvSpPr>
          <p:spPr>
            <a:xfrm>
              <a:off x="6172200" y="5067360"/>
              <a:ext cx="273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ore Page Fa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2" name=""/>
            <p:cNvCxnSpPr>
              <a:stCxn id="1058" idx="3"/>
              <a:endCxn id="1061" idx="0"/>
            </p:cNvCxnSpPr>
            <p:nvPr/>
          </p:nvCxnSpPr>
          <p:spPr>
            <a:xfrm>
              <a:off x="5114520" y="4224240"/>
              <a:ext cx="2423160" cy="84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63" name=""/>
          <p:cNvGrpSpPr/>
          <p:nvPr/>
        </p:nvGrpSpPr>
        <p:grpSpPr>
          <a:xfrm>
            <a:off x="5105520" y="5372280"/>
            <a:ext cx="2431440" cy="1129680"/>
            <a:chOff x="5105520" y="5372280"/>
            <a:chExt cx="2431440" cy="1129680"/>
          </a:xfrm>
        </p:grpSpPr>
        <p:sp>
          <p:nvSpPr>
            <p:cNvPr id="1064" name=""/>
            <p:cNvSpPr/>
            <p:nvPr/>
          </p:nvSpPr>
          <p:spPr>
            <a:xfrm>
              <a:off x="5105520" y="5981760"/>
              <a:ext cx="153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Wait I/O (page)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1" idx="2"/>
              <a:endCxn id="1064" idx="3"/>
            </p:cNvCxnSpPr>
            <p:nvPr/>
          </p:nvCxnSpPr>
          <p:spPr>
            <a:xfrm rot="5400000">
              <a:off x="6654600" y="5358600"/>
              <a:ext cx="869040" cy="896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66" name=""/>
          <p:cNvCxnSpPr>
            <a:stCxn id="1067" idx="1"/>
            <a:endCxn id="1056" idx="2"/>
          </p:cNvCxnSpPr>
          <p:nvPr/>
        </p:nvCxnSpPr>
        <p:spPr>
          <a:xfrm rot="10800000">
            <a:off x="1396440" y="5447520"/>
            <a:ext cx="838800" cy="767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68" name=""/>
          <p:cNvGrpSpPr/>
          <p:nvPr/>
        </p:nvGrpSpPr>
        <p:grpSpPr>
          <a:xfrm>
            <a:off x="2235240" y="5956200"/>
            <a:ext cx="2819520" cy="520200"/>
            <a:chOff x="2235240" y="5956200"/>
            <a:chExt cx="2819520" cy="520200"/>
          </a:xfrm>
        </p:grpSpPr>
        <p:sp>
          <p:nvSpPr>
            <p:cNvPr id="1067" name=""/>
            <p:cNvSpPr/>
            <p:nvPr/>
          </p:nvSpPr>
          <p:spPr>
            <a:xfrm>
              <a:off x="2235240" y="5956200"/>
              <a:ext cx="158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PU utilization decre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683160" y="6159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ashing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90720" y="4152600"/>
            <a:ext cx="70293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es paging wor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igrates from one locality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ties may overl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es thrashing occu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ze of locality &gt; total memory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rcRect l="759" t="14098" r="561" b="14427"/>
          <a:stretch/>
        </p:blipFill>
        <p:spPr>
          <a:xfrm>
            <a:off x="2227320" y="1303200"/>
            <a:ext cx="47368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 In A Memory-Reference Patt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rcRect l="21896" t="718" r="21896" b="1671"/>
          <a:stretch/>
        </p:blipFill>
        <p:spPr>
          <a:xfrm>
            <a:off x="460440" y="838080"/>
            <a:ext cx="83120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-Set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-set windo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fixed number of page referenc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 10,000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orking set of Proce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number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ffer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ges referenced in the most recen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varies in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small will not encompass entire loc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will encompass several loc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encompass entir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tal demand fram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as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: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m, then suspend one of the proc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063440" y="5499000"/>
            <a:ext cx="70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6 1 5 7 7 7 7 5 1 6 2 3 4 1 2 3 4 4 4 3 4 3 4 4 4 1 3 2 3 4 4 4 3 4 4 4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11480" y="582948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95640" y="5719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97320" y="6157800"/>
            <a:ext cx="12596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S(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) = {1,2,5,6,7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05440" y="582948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127040" y="605808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89600" y="5719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397400" y="6157800"/>
            <a:ext cx="944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S(t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) = {3,4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333080" y="605808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ing Track of the Working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 with interval timer + a reference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0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nterrupts after every 5000 tim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n memory 2 bits for each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a timer interrupts copy and sets the values of all reference bits to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bits in memory =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 in working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s this not completely accura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ment = 10 bits and interrupt every 1000 time uni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-Fault Frequency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047240" y="4800600"/>
            <a:ext cx="7029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“acceptable” page-fault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ctual rate too low, process loses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ctual rate too high, process gains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rcRect l="579" t="18048" r="579" b="18517"/>
          <a:stretch/>
        </p:blipFill>
        <p:spPr>
          <a:xfrm>
            <a:off x="1477800" y="1397160"/>
            <a:ext cx="5967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g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working se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size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fragmentation  (sm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size (l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overhead (l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ty (small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interlock and addr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sideration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LB Reach - The amount of memory accessible from the TL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Reach = (TLB Size) X (Page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the working set of each process is stored in the TLB. Otherwise there is a high degree of page fa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ng a page into memory only when it is nee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I/O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memor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is neede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ference t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-in-memo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ing to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Size of the T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the Page Size. This may lead to an increase in fragmentation as not all applications require a large page siz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ultiple Page Sizes. This allows applications that require larger page sizes the opportunity to use them without an increase in frag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sideration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Interlock – Pages must sometimes be locked into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I/O. Pages that are used for copying a file from a device must be locked from being selected for eviction by a page replacement algorith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 Why Frames Used For I/O Must Be In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rcRect l="20167" t="1601" r="18618" b="1365"/>
          <a:stretch/>
        </p:blipFill>
        <p:spPr>
          <a:xfrm>
            <a:off x="774720" y="969840"/>
            <a:ext cx="7396200" cy="5170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sideration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A[1024, 1024] of integer (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 A[ ] [ ] = new int[1024][1024];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w is stored in one page (4K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ss than 1024 frames allo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y 10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gram 1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(j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= 0; j &lt; 1024;  j++)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(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= 0; I &lt; 1024; i++)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[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i,j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] = 0;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24 x 1024 page faults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gram 2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(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= 0; i &lt; 1024;  i++)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(j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= 0; j &lt; 1024; j++)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[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i,j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] := 0;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24 page faults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of a Paged Memory to Contiguous Disk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0543" t="1649" r="10074" b="1260"/>
          <a:stretch/>
        </p:blipFill>
        <p:spPr>
          <a:xfrm>
            <a:off x="241200" y="990720"/>
            <a:ext cx="788688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-Invalid 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029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ach page table entry a valid–invalid bit is associ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-memory, 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-in-memor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 not-va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 valid–invalid bit is set to 0 on all ent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a page table snapshot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address translation, if valid–invalid bit in page table entry is 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age fa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747880"/>
            <a:ext cx="19047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052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7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3662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967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4272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82904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511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443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3800" y="271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3800" y="301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3800" y="331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3800" y="364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3800" y="396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3800" y="480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3800" y="51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4480" y="434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03080" y="244224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17280" y="244224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-invali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5440" y="375804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65800" y="438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pages in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48160" y="987480"/>
            <a:ext cx="287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8160" y="1297080"/>
            <a:ext cx="287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48160" y="1600200"/>
            <a:ext cx="287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8160" y="1911240"/>
            <a:ext cx="287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48160" y="2220840"/>
            <a:ext cx="287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48160" y="2532240"/>
            <a:ext cx="287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8160" y="2835360"/>
            <a:ext cx="287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8160" y="3146400"/>
            <a:ext cx="287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98424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29384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1606680"/>
            <a:ext cx="771480" cy="30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190656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219400"/>
            <a:ext cx="77148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252900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840040"/>
            <a:ext cx="771480" cy="30960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15108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45280" y="3471840"/>
            <a:ext cx="287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45280" y="3781440"/>
            <a:ext cx="287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45280" y="4084560"/>
            <a:ext cx="287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45280" y="4395960"/>
            <a:ext cx="287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45280" y="4705200"/>
            <a:ext cx="287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45280" y="5016600"/>
            <a:ext cx="287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5280" y="5318280"/>
            <a:ext cx="287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5800" y="345744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5800" y="3767040"/>
            <a:ext cx="771480" cy="30960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5800" y="4068720"/>
            <a:ext cx="77148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5800" y="4379760"/>
            <a:ext cx="77148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5800" y="4692600"/>
            <a:ext cx="77148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5800" y="500220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5800" y="5313240"/>
            <a:ext cx="77148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12000" y="1425600"/>
            <a:ext cx="2089080" cy="37288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91360" y="2514600"/>
            <a:ext cx="27324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24960" y="251460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58200" y="251460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91360" y="2975040"/>
            <a:ext cx="27324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24960" y="2975040"/>
            <a:ext cx="27288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458200" y="2975040"/>
            <a:ext cx="27288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91360" y="3436920"/>
            <a:ext cx="27324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24960" y="3436920"/>
            <a:ext cx="27288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58200" y="3436920"/>
            <a:ext cx="27288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91360" y="3897360"/>
            <a:ext cx="273240" cy="2491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24960" y="389736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458200" y="389736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91360" y="4359240"/>
            <a:ext cx="27324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4960" y="435924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435924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91360" y="4359240"/>
            <a:ext cx="27324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24960" y="435924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58200" y="4359240"/>
            <a:ext cx="272880" cy="24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520" y="51768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og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00880" y="51260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3840" y="573264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74800" y="171756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ing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86120" y="884160"/>
            <a:ext cx="104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alid / in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11040" y="982800"/>
            <a:ext cx="56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0720" y="1544760"/>
            <a:ext cx="345960" cy="3263400"/>
            <a:chOff x="450720" y="1544760"/>
            <a:chExt cx="345960" cy="3263400"/>
          </a:xfrm>
        </p:grpSpPr>
        <p:sp>
          <p:nvSpPr>
            <p:cNvPr id="273" name=""/>
            <p:cNvSpPr/>
            <p:nvPr/>
          </p:nvSpPr>
          <p:spPr>
            <a:xfrm>
              <a:off x="450720" y="154476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720" y="197352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720" y="239328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282348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0720" y="325224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0720" y="368100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720" y="410040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720" y="453060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866880" y="1546200"/>
          <a:ext cx="6192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546200"/>
                    <a:ext cx="619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092400" y="164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01880" y="164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11720" y="164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21080" y="2060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21080" y="37368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21080" y="499428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62120" y="1589040"/>
            <a:ext cx="345960" cy="3263760"/>
            <a:chOff x="2562120" y="1589040"/>
            <a:chExt cx="345960" cy="3263760"/>
          </a:xfrm>
        </p:grpSpPr>
        <p:sp>
          <p:nvSpPr>
            <p:cNvPr id="290" name=""/>
            <p:cNvSpPr/>
            <p:nvPr/>
          </p:nvSpPr>
          <p:spPr>
            <a:xfrm>
              <a:off x="2562120" y="158904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62120" y="201780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2120" y="243756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62120" y="286776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62120" y="329652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62120" y="3725640"/>
              <a:ext cx="345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2120" y="414504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62120" y="4575240"/>
              <a:ext cx="345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98720" y="1622520"/>
            <a:ext cx="77148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8720" y="2443320"/>
            <a:ext cx="771480" cy="4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8720" y="2035080"/>
            <a:ext cx="771480" cy="41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8720" y="2852640"/>
            <a:ext cx="771480" cy="41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7280" y="3262320"/>
            <a:ext cx="77148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7280" y="3672000"/>
            <a:ext cx="77148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97280" y="4087800"/>
            <a:ext cx="771480" cy="41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7280" y="4508640"/>
            <a:ext cx="771480" cy="4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66960" y="1619280"/>
            <a:ext cx="33372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66960" y="2033640"/>
            <a:ext cx="33372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66960" y="2451240"/>
            <a:ext cx="33372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66960" y="2860560"/>
            <a:ext cx="33372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6960" y="3270240"/>
            <a:ext cx="33372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66960" y="3679920"/>
            <a:ext cx="33372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66960" y="4086360"/>
            <a:ext cx="333720" cy="41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66960" y="4506840"/>
            <a:ext cx="333720" cy="41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271" idx="2"/>
            <a:endCxn id="298" idx="0"/>
          </p:cNvCxnSpPr>
          <p:nvPr/>
        </p:nvCxnSpPr>
        <p:spPr>
          <a:xfrm flipH="1">
            <a:off x="3284280" y="1227240"/>
            <a:ext cx="86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70" idx="2"/>
            <a:endCxn id="306" idx="0"/>
          </p:cNvCxnSpPr>
          <p:nvPr/>
        </p:nvCxnSpPr>
        <p:spPr>
          <a:xfrm flipH="1">
            <a:off x="3832920" y="1280880"/>
            <a:ext cx="474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6" name=""/>
          <p:cNvGrpSpPr/>
          <p:nvPr/>
        </p:nvGrpSpPr>
        <p:grpSpPr>
          <a:xfrm>
            <a:off x="2914560" y="4124160"/>
            <a:ext cx="714600" cy="768600"/>
            <a:chOff x="2914560" y="4124160"/>
            <a:chExt cx="714600" cy="768600"/>
          </a:xfrm>
        </p:grpSpPr>
        <p:sp>
          <p:nvSpPr>
            <p:cNvPr id="317" name=""/>
            <p:cNvSpPr/>
            <p:nvPr/>
          </p:nvSpPr>
          <p:spPr>
            <a:xfrm>
              <a:off x="2924280" y="412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14560" y="4524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914560" y="2066760"/>
            <a:ext cx="714600" cy="1597320"/>
            <a:chOff x="2914560" y="2066760"/>
            <a:chExt cx="714600" cy="1597320"/>
          </a:xfrm>
        </p:grpSpPr>
        <p:sp>
          <p:nvSpPr>
            <p:cNvPr id="320" name=""/>
            <p:cNvSpPr/>
            <p:nvPr/>
          </p:nvSpPr>
          <p:spPr>
            <a:xfrm>
              <a:off x="2924280" y="28954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</a:rPr>
                <a:t>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14560" y="3295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</a:rPr>
                <a:t>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24280" y="2066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</a:rPr>
                <a:t>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1028880"/>
            <a:ext cx="70293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ever a reference to a page, first reference will trap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ge fa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looks at another table to deci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o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empty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 page into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t tables, validation bit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art instruction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m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BM MVC instruction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increment/decrement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DP MOV (R2)+,-(R3)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27760" y="451800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69200" y="489888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50080" y="4365720"/>
            <a:ext cx="533520" cy="533160"/>
          </a:xfrm>
          <a:custGeom>
            <a:avLst/>
            <a:gdLst/>
            <a:ahLst/>
            <a:rect l="l" t="t" r="r" b="b"/>
            <a:pathLst>
              <a:path w="344" h="376">
                <a:moveTo>
                  <a:pt x="336" y="376"/>
                </a:moveTo>
                <a:cubicBezTo>
                  <a:pt x="340" y="228"/>
                  <a:pt x="344" y="80"/>
                  <a:pt x="288" y="40"/>
                </a:cubicBezTo>
                <a:cubicBezTo>
                  <a:pt x="232" y="0"/>
                  <a:pt x="116" y="68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5:41:59Z</dcterms:created>
  <dc:creator>Marilyn Turnamian</dc:creator>
  <dc:description/>
  <dc:language>en-US</dc:language>
  <cp:lastModifiedBy>Zvi Yehudai</cp:lastModifiedBy>
  <cp:lastPrinted>1999-06-28T19:27:31Z</cp:lastPrinted>
  <dcterms:modified xsi:type="dcterms:W3CDTF">2005-03-21T14:39:34Z</dcterms:modified>
  <cp:revision>95</cp:revision>
  <dc:subject/>
  <dc:title>No Slide Title</dc:title>
</cp:coreProperties>
</file>