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6"/>
          </p:nvPr>
        </p:nvSpPr>
        <p:spPr>
          <a:xfrm>
            <a:off x="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7"/>
          </p:nvPr>
        </p:nvSpPr>
        <p:spPr>
          <a:xfrm>
            <a:off x="3965040" y="8817120"/>
            <a:ext cx="303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98AA9-4A1C-4A93-B307-22F817B516A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9360" y="69372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1800"/>
            <a:ext cx="51260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ering Chapter 1-3 of Silbersha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OS 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ow they designed and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/CS - OS Spring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43640" cy="912960"/>
            <a:chOff x="0" y="0"/>
            <a:chExt cx="9143640" cy="912960"/>
          </a:xfrm>
        </p:grpSpPr>
        <p:sp>
          <p:nvSpPr>
            <p:cNvPr id="7" name=""/>
            <p:cNvSpPr/>
            <p:nvPr/>
          </p:nvSpPr>
          <p:spPr>
            <a:xfrm>
              <a:off x="969840" y="34920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6984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2120" y="8892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684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27440" y="17100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2744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70080" y="26028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66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1980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71640" y="34920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0112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71880" y="8892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7188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14160" y="17100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172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14280" y="26028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142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056920" y="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58720" y="1980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9840" y="52056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6984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12120" y="78084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8684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927440" y="69732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92744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0080" y="60984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566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86868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3848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571640" y="52056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70112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771880" y="78084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7188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14160" y="69732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4172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14280" y="60984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142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56920" y="86868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58720" y="43848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198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Lecture 10 -</a:t>
            </a:r>
            <a:fld id="{152FF416-56E1-4D17-A13C-F1DF545753A0}" type="slidenum">
              <a:rPr b="0" lang="he-IL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3640" cy="6847200"/>
            <a:chOff x="0" y="0"/>
            <a:chExt cx="9143640" cy="6847200"/>
          </a:xfrm>
        </p:grpSpPr>
        <p:sp>
          <p:nvSpPr>
            <p:cNvPr id="89" name=""/>
            <p:cNvSpPr/>
            <p:nvPr/>
          </p:nvSpPr>
          <p:spPr>
            <a:xfrm>
              <a:off x="969840" y="26200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984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2120" y="66852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8684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7440" y="128304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744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0080" y="195156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566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5084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1640" y="26200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112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71880" y="66852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188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4160" y="128304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172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14280" y="195156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42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56920" y="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58720" y="15084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9034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2120" y="585540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684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7440" y="522972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744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0080" y="457200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66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51312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328896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1640" y="39034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0112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1880" y="585540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188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160" y="522972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4172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4280" y="457200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42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6920" y="651312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8720" y="328896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 – CS / Spring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and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 Chapter 18-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67800" y="252252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ation by Nadav 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s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ssociation domain-process can be static or dynamic (domain switch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s are defined in several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per user - domains change at login/log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per process - domain switching through I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per procedure - domain switching 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s - Unix &amp; Mul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ing - temporary switching user (real uid vs. effective uid) - mechanism is setuid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rings 0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rings (lower numbers) more privile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address space - each segment is associated with a ring (segment descriptor has ring # and rwe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has also “current - ring - number” - when executin in ring I it can access only segments with ring j &gt;=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switching by calling a procedure in another ring through a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Each ring got 3 integer values (b1,b2,b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descrip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ccess bracket b1, b2 (b1&lt;=b2)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limit b3 (b3 &gt; b2)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list of gates (entry points)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2 rings mode equivalent to user- monito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s 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Di and Dj be any two domain ring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j &lt;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644" t="9041" r="579" b="8679"/>
          <a:stretch/>
        </p:blipFill>
        <p:spPr>
          <a:xfrm>
            <a:off x="2170080" y="2728800"/>
            <a:ext cx="48783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s - Unix &amp; Mul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rom ring I to another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f b1 &lt;= i &lt;= b2 normal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f  i &lt; b1  allowed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f  i &gt; b2  only if i &lt;= b3 and only to one of the designated entry points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Unix and Multics use privileged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s is complex and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oth hard to implement need-to-k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witching ring domains must be controlled otherwise a process can start from ring 0 and no protection will be provi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mplemen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onsists of 2 domai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 user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switch accomplished via fil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ach file has associated with it a domain bit (setuid bit)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en file is executed and setuid = on, then user-id is set to owner of the file being executed. When execution completes user-id is reset.  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239" t="16538" r="0" b="16269"/>
          <a:stretch/>
        </p:blipFill>
        <p:spPr>
          <a:xfrm>
            <a:off x="944640" y="1420920"/>
            <a:ext cx="7580160" cy="4084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49120" y="56858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ccess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rocess in Domain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ies to do “op” on object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“op” must be in the access matri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expanded to dynamic prot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to add, delete access r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access rig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owner of O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copy op from O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to O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control – D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can modify D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s access rights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ransfer – switch from domain D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to D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ccess Matrix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atrix design separates mechanism from poli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perating system provides Access-matrix + rules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f ensures that the matrix is only manipulated by authorized agents and that rules are strictly enforced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ser dictates policy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o can access what object and in what mode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ing can be achieved by including domains to objects and enabling the “switch” operation on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process that has been executed in D4 can switch to D1 and from D1 to D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495360"/>
            <a:ext cx="82407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of Figure 1 With Domains as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682" t="23973" r="245" b="23943"/>
          <a:stretch/>
        </p:blipFill>
        <p:spPr>
          <a:xfrm>
            <a:off x="655560" y="1914480"/>
            <a:ext cx="7981920" cy="3357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77640" y="541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48240" y="1914480"/>
            <a:ext cx="3189240" cy="335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internal mechanisms to insure that resources are manipulated according to rules and policies (enforced by the operating sys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als with protection against unauthorized access, destruction and alteration - malicious or accide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- copy owner an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change to access matrix content through copy, owner and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- allows copy within the column (move and restricted copy are vari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 can add/remove any right in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allows change of rights with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lists fo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 lists for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&amp;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with Copy R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13032" t="856" r="12840" b="1163"/>
          <a:stretch/>
        </p:blipFill>
        <p:spPr>
          <a:xfrm>
            <a:off x="2328840" y="1357200"/>
            <a:ext cx="4656240" cy="4923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927680" y="2565360"/>
            <a:ext cx="7873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27680" y="5486400"/>
            <a:ext cx="7873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With Owner R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17020" t="786" r="16834" b="1078"/>
          <a:stretch/>
        </p:blipFill>
        <p:spPr>
          <a:xfrm>
            <a:off x="2479680" y="1325520"/>
            <a:ext cx="4222800" cy="501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800600" y="2654280"/>
            <a:ext cx="78732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397480"/>
            <a:ext cx="78732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5702400"/>
            <a:ext cx="78732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40560" y="2590920"/>
            <a:ext cx="787320" cy="21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40560" y="4686480"/>
            <a:ext cx="787320" cy="215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95360"/>
            <a:ext cx="82407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of Figure 1 With Domains as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682" t="23973" r="245" b="23943"/>
          <a:stretch/>
        </p:blipFill>
        <p:spPr>
          <a:xfrm>
            <a:off x="655560" y="1914480"/>
            <a:ext cx="7981920" cy="3357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977640" y="541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8240" y="1914480"/>
            <a:ext cx="3189240" cy="335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Access Matrix of Figur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e include the “control” privilege on (D2,D4) then a process running on D2 can modify the domain D4 as foll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534160" cy="2590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552" t="24120" r="263" b="23847"/>
          <a:stretch/>
        </p:blipFill>
        <p:spPr>
          <a:xfrm>
            <a:off x="932040" y="3013200"/>
            <a:ext cx="7246800" cy="3041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340760" y="4641840"/>
            <a:ext cx="7873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25680" y="5486400"/>
            <a:ext cx="7873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25680" y="5486400"/>
            <a:ext cx="787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425680" y="5486400"/>
            <a:ext cx="787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98800" y="5486400"/>
            <a:ext cx="78768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8800" y="5486400"/>
            <a:ext cx="787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98800" y="5486400"/>
            <a:ext cx="787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T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is large (and sparsely popu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 need for I/O because of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ist (most Unix flav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lumn of the access matrix is an acces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object an ordered list of pairs &lt;domain, right-s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include a default to keep list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update when domain changes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w of the access matrix (an ordered pair of object references and the rights 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represented by name or pointer (called cap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ossession of the pointer means that we have the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 list has to be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Matrix Implementation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should not be hande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are a sort of “safe poin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are implemented as “tagged” objects (e.g., AS/400, Intel 4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can be manipulated only through speci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 &amp;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have unique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s must have keys to fit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keys must be managed by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ist are simple but can be poor per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 can be good performers but are hard and costly to imp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systems are a combination of access list and capabilities (e.g., file access on open access list based the capabi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cation of rights - complex in all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Access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76400" y="139716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lumn = Access-control list for one objec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s who can perform what operation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1 = Read, Wr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2 = 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3 = Read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ow = Capability List (like a ke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domain, what operations allowed on what obj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Object 1 – Read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Object 4 – Read, Write, Execute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Object 5 – Read, Write, Delete, Copy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ocation of Access R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ist – Delete access rights from access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List – Scheme required to locate capability in the system before capability can be revo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set of access rights known to and interpreted by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of user-defined rights performed solely by user's program; system provides access protection for use of these r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ridge CAP Syste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apability - provides standard read, write, execute of individual storage segments associated with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capability -interpretation left to the subsystem, through its protected proced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 of Prot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of Prot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atri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Access Matri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cation of Access Righ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based prot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is an extension of typing (declar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requirements can be stated in a portable fash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ly rest on the assumption that either the code will not be modified before run or that a check of conformance can be made(example Ja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protection is better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(of the prot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based can be more flexible (adapted to user nee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 of protection in a programming language allows the high-level description of policies for the allocation and use of resou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mplementation can provide software for protection enforcement when automatic hardware-supported checking is un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 protection specifications to generate calls on whatever protection system is provided by the hardware and the operating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Thre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t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must consider external environment of the system, and protect it fro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uthorized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cious modification or de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 introduction of in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protect against accidental than malicious misu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prevents misuse of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violations are either intentional (malicious) or accide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violations may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uthorized access to data (read, write,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is handled at two leve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-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he post is physically guarded. (M.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-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oosing the right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 is a major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by knowing something (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by having something (smartcard, fingerprint, eyeprin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be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be non-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be able to rememb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ecure one-time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passwords and password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aud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get pass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he stealth approach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“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ooking over the shoulder” technique. trying to get the password from someone who knows it or has it. Using various methods- from data monitoring through network and on to “looking over a shoulder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y brute force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ing technological methods and computers we will try and “guess” the password – a 4 digit password is only 9*9*9*9 combination and in 1mlsc per operation cpu it will take us only 5 seconds to break it . – will discussed it later on encry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identity most often established throug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wor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n be considered a special case of either keys or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s must be kept secr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change of pass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“non-guessable” pass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all invalid access attem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clude 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segment that misuses its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s mechanisms for allowing programs written by users to be executed by other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e will discuss about two kinds of Troj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p 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included for debugging and tracing (called backdo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unexpected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user identifier or password that circumvents normal security proced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 doors in compil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Thr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m use complete programs (do modify data and deny serv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the Robert Morris 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sing the network to spawn itself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 high damage in short time pot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 programs on its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 bomb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- program fra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rough disk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 about apparently passive items (e.g. Word processor DOC files containing macros in unrestricted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thre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ts - the applet basic security model - the sandbox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es and the privac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jacking appl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dern computing system includes a multitude of resources (CPU, memory, disks, files, printers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ources are used by a multitude of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essential that each process or group of processes uses resources according to stated rules and pol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will enforce policies governing resource 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policies are fixed others are formulated by system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 should be available also to application desig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Thr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ms – use spawn mechanism; standalon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ed UNIX networking features (remote access) and bug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d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pling hook program uploaded main worm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– fragment of code embedded in a legitimate pro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effect microcomputer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ing viral programs from public bulletin boards or exchanging floppy disks containing an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fe compu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jans-and malicious apps-infection ways-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an be implanted in two main way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e distributed by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may be delivered to a huge amount of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got a “large scale of damge” in a very short time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may cause a chain reaction on organizations. (one system damaged the othe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hard to track the distribu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“easy” and quick solution as it expose (by antivirus or add-aware \ spybot kind of app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4572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jans-and malicious apps-infection ways-by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ing the surgical approach (mainly trojans and wor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a “related to task” programm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can be very stealthy and unnotic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can “work” for alo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in most case has to be inserted physically ( or using a direct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pproach on the ne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as is in the case lately on the ne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bert Tappan Morris Internet W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546" t="19742" r="328" b="19912"/>
          <a:stretch/>
        </p:blipFill>
        <p:spPr>
          <a:xfrm>
            <a:off x="1052640" y="1962000"/>
            <a:ext cx="7356240" cy="3583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04560" y="1031760"/>
            <a:ext cx="78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s.williams.edu/~tom/courses/105/outlines/CS105_42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 Monitoring – preventing pene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For business groups or large organizations mai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Huma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inding the right people and that can be trus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orking protocols and restriction on outside med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uarding the network servers physic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Organization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king network clusters and intranets ( the I.D.F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lassification in the organization (one man password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echnological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ing firew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licious programs  removal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ing the ISP pro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ing your own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 Monitoring-finding pene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for suspicious patterns of activity – i.e., several incorrect password attempts may signal password gu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 log – records the time, user, and type of all accesses to an object; useful for recovery from a violation and developing better security meas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the system periodically for security holes; done when the computer is relatively un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or easy-to-guess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 Monitoring- is someone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19340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f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uthorized set-ui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uthorized programs in system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long-running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per directory prot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per protections on system data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 entries in the program search path (Trojan ho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system programs: monitor checksum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Security Through Domain Separation Via Fire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65" t="12308" r="573" b="12123"/>
          <a:stretch/>
        </p:blipFill>
        <p:spPr>
          <a:xfrm>
            <a:off x="1087560" y="1620720"/>
            <a:ext cx="7365960" cy="4513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642000" y="3441600"/>
            <a:ext cx="419040" cy="3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2000" y="3416400"/>
            <a:ext cx="3621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951400">
            <a:off x="6795720" y="4476600"/>
            <a:ext cx="1565280" cy="1749600"/>
          </a:xfrm>
          <a:prstGeom prst="wedgeRoundRectCallout">
            <a:avLst>
              <a:gd name="adj1" fmla="val -101620"/>
              <a:gd name="adj2" fmla="val 58356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DMZ should not access the company computers unless it is thorugh the F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3960" y="4568760"/>
            <a:ext cx="301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fference between DMZ and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system class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datory and voluntary protection/aud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nets and their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-commerce and it’s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 and poli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104480"/>
            <a:ext cx="8534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echanism determines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how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its done (semaphores, critical section problem etc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licy determine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what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will be done (users on logon etc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licies can change from place to place (different different domains) or from time to time (different application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 clear text into cipher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good encryption techniqu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imple for authorized users to incrypt and decrypt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scheme depends not on the secrecy of the algorithm but on a parameter of the algorithm called the encryption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difficult for an intruder to determine the encryption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Encryption Stand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stitutes characters and rearranges their order on the basis of an encryption key provided to authorized users via a secure mechanism.  Scheme only as secure as the mechanis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c” 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wo ways func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can be reversed knowing the right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ob want to deliver secret msg to Al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bob will take his message , encrypt it with a very secret key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nds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Alice will uncode it only if she knows the secret key that bob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Drawbac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if someone will intercepts the message and has a knowledg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bout the secret key the message will be unco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Solu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change the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change the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 – the RSA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ne way func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you can put a parameter in the function and get a result but it is very hard (or not) to undo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uses the scheme of public key and a private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bob want to deliver a secrete message to Alice, Alice ha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ublished her public key in any way she can ( her homepage, emai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tc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bob will take the message and encrypted it using Alice public ke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ich is a “one way function” , once the message is encrypted onl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private key can break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roblem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finding that “one way func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 – the RSA algorithm (contd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irstly known  at the late 70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as been used until today and known as the most secured encryption code in this day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Alice public key will be the multiplication of two prime nu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Alice private key will be those two prime nu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- finding the prime factors of a very large number is a ve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licated problem even for parallel comp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 today's banks transactions a number in a length of 10 time 308 is chos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o break that kind of a number will take 100,000 parallel cpu’s over 1,000 yea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612800" y="2387520"/>
            <a:ext cx="5467320" cy="312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 system consists of a collection of object|s, hardware o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bject has a unique name and can be accessed through a well-defined set of ope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problem - ensure that each object is accessed correctly and only by those processes that are allowed to do 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do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system is viewed as a collection of processes and objec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objects - CPU, memory, disks, tapes,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objects - files, programs,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views all objects as abstract data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s have unique names and can be manipulated (accessed) through well defined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 are object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cess should be able to access to which it has been author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cess should be authorized only to resources it needs to complete the job (need-to-know)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– limiting the amount of damage that may occur from a faulty process to the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tection domain defines a set of objects (resources) and the types of operations that can be invoked on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execute an operation on an object i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CESS R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s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main is a collection of of access rights (i.e., ordered pairs &lt;object-name, right set&gt;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cess executes in a protection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 don’t have to be disjoint (they may share righ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- a system with 5 objects and 3 domai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5,{read,write}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1,{read,write}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2,{execute}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2{write}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4{print}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3{read}&gt; - shared with D3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3{read}&gt; - shared with D2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lt;O1{execute&gt;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&lt;O4{print}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-right = &lt;object-name, rights-set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s-set is a subset of all valid operations that can be performed on the objec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= set of access-righ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472" t="36738" r="434" b="36332"/>
          <a:stretch/>
        </p:blipFill>
        <p:spPr>
          <a:xfrm>
            <a:off x="522360" y="3344760"/>
            <a:ext cx="768348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Zvi Yehudai</cp:lastModifiedBy>
  <cp:lastPrinted>1997-12-16T15:08:05Z</cp:lastPrinted>
  <dcterms:modified xsi:type="dcterms:W3CDTF">2005-06-04T10:33:23Z</dcterms:modified>
  <cp:revision>108</cp:revision>
  <dc:subject/>
  <dc:title>Operating Systems</dc:title>
</cp:coreProperties>
</file>