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088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70092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934560" y="4408560"/>
            <a:ext cx="514044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6"/>
          </p:nvPr>
        </p:nvSpPr>
        <p:spPr>
          <a:xfrm>
            <a:off x="0" y="882000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7"/>
          </p:nvPr>
        </p:nvSpPr>
        <p:spPr>
          <a:xfrm>
            <a:off x="3971880" y="882000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DA3E7E-D1D8-4CB9-A267-46109BF3924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87280" y="69228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36720" y="4411800"/>
            <a:ext cx="5137200" cy="417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ering Chapter 1-3 of Silbershat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OS 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What they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How they designed and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906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6080" y="99072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492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906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6080" y="3776760"/>
            <a:ext cx="274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377676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6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990720"/>
            <a:ext cx="41644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776760"/>
            <a:ext cx="85341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316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date/time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Z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U-Haifa/CS - OS Spring/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9143640" cy="912960"/>
            <a:chOff x="0" y="0"/>
            <a:chExt cx="9143640" cy="912960"/>
          </a:xfrm>
        </p:grpSpPr>
        <p:sp>
          <p:nvSpPr>
            <p:cNvPr id="7" name=""/>
            <p:cNvSpPr/>
            <p:nvPr/>
          </p:nvSpPr>
          <p:spPr>
            <a:xfrm>
              <a:off x="969840" y="349200"/>
              <a:ext cx="3601800" cy="442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0" y="24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140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69840" y="8892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2120" y="88920"/>
              <a:ext cx="2159280" cy="442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1247" y="24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967" y="24"/>
                  </a:lnTo>
                  <a:lnTo>
                    <a:pt x="1247" y="24"/>
                  </a:lnTo>
                  <a:lnTo>
                    <a:pt x="1247" y="0"/>
                  </a:lnTo>
                  <a:lnTo>
                    <a:pt x="1107" y="0"/>
                  </a:lnTo>
                  <a:lnTo>
                    <a:pt x="124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886840" y="1076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119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1"/>
                  </a:lnTo>
                  <a:lnTo>
                    <a:pt x="140" y="119"/>
                  </a:lnTo>
                  <a:lnTo>
                    <a:pt x="280" y="119"/>
                  </a:lnTo>
                  <a:lnTo>
                    <a:pt x="280" y="95"/>
                  </a:lnTo>
                  <a:lnTo>
                    <a:pt x="140" y="119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27440" y="171000"/>
              <a:ext cx="1202040" cy="442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28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927440" y="1969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72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20"/>
                  </a:lnTo>
                  <a:lnTo>
                    <a:pt x="0" y="95"/>
                  </a:lnTo>
                  <a:lnTo>
                    <a:pt x="0" y="120"/>
                  </a:lnTo>
                  <a:lnTo>
                    <a:pt x="140" y="120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70080" y="260280"/>
              <a:ext cx="2171520" cy="442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974" y="23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1254" y="23"/>
                  </a:lnTo>
                  <a:lnTo>
                    <a:pt x="1114" y="48"/>
                  </a:lnTo>
                  <a:lnTo>
                    <a:pt x="1254" y="48"/>
                  </a:lnTo>
                  <a:lnTo>
                    <a:pt x="1254" y="23"/>
                  </a:lnTo>
                  <a:lnTo>
                    <a:pt x="974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856680" y="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0"/>
              <a:ext cx="4098960" cy="442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287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0" y="19800"/>
              <a:ext cx="497160" cy="45576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456"/>
                  </a:moveTo>
                  <a:lnTo>
                    <a:pt x="287" y="480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504"/>
                  </a:lnTo>
                  <a:lnTo>
                    <a:pt x="0" y="480"/>
                  </a:lnTo>
                  <a:lnTo>
                    <a:pt x="0" y="504"/>
                  </a:lnTo>
                  <a:lnTo>
                    <a:pt x="140" y="504"/>
                  </a:lnTo>
                  <a:lnTo>
                    <a:pt x="140" y="456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2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571640" y="349200"/>
              <a:ext cx="3614040" cy="442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1807" y="24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2087" y="24"/>
                  </a:lnTo>
                  <a:lnTo>
                    <a:pt x="1953" y="49"/>
                  </a:lnTo>
                  <a:lnTo>
                    <a:pt x="2087" y="49"/>
                  </a:lnTo>
                  <a:lnTo>
                    <a:pt x="2087" y="24"/>
                  </a:lnTo>
                  <a:lnTo>
                    <a:pt x="180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701120" y="8892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6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6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6" y="0"/>
                  </a:lnTo>
                  <a:lnTo>
                    <a:pt x="146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771880" y="88920"/>
              <a:ext cx="2181600" cy="442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280" y="24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71880" y="1076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71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19"/>
                  </a:lnTo>
                  <a:lnTo>
                    <a:pt x="0" y="95"/>
                  </a:lnTo>
                  <a:lnTo>
                    <a:pt x="0" y="119"/>
                  </a:lnTo>
                  <a:lnTo>
                    <a:pt x="140" y="119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014160" y="171000"/>
              <a:ext cx="1212120" cy="442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70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420" y="24"/>
                  </a:lnTo>
                  <a:lnTo>
                    <a:pt x="700" y="24"/>
                  </a:lnTo>
                  <a:lnTo>
                    <a:pt x="700" y="0"/>
                  </a:lnTo>
                  <a:lnTo>
                    <a:pt x="560" y="0"/>
                  </a:lnTo>
                  <a:lnTo>
                    <a:pt x="7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41720" y="1969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120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2"/>
                  </a:lnTo>
                  <a:lnTo>
                    <a:pt x="140" y="120"/>
                  </a:lnTo>
                  <a:lnTo>
                    <a:pt x="280" y="120"/>
                  </a:lnTo>
                  <a:lnTo>
                    <a:pt x="280" y="95"/>
                  </a:lnTo>
                  <a:lnTo>
                    <a:pt x="140" y="12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814280" y="260280"/>
              <a:ext cx="2170080" cy="442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0" y="23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814280" y="0"/>
              <a:ext cx="484920" cy="27900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056920" y="0"/>
              <a:ext cx="4086720" cy="442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36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080" y="24"/>
                  </a:lnTo>
                  <a:lnTo>
                    <a:pt x="2360" y="24"/>
                  </a:lnTo>
                  <a:lnTo>
                    <a:pt x="2360" y="0"/>
                  </a:lnTo>
                  <a:lnTo>
                    <a:pt x="2220" y="0"/>
                  </a:lnTo>
                  <a:lnTo>
                    <a:pt x="236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658720" y="19800"/>
              <a:ext cx="484920" cy="45576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504"/>
                  </a:moveTo>
                  <a:lnTo>
                    <a:pt x="280" y="480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456"/>
                  </a:lnTo>
                  <a:lnTo>
                    <a:pt x="140" y="504"/>
                  </a:lnTo>
                  <a:lnTo>
                    <a:pt x="280" y="504"/>
                  </a:lnTo>
                  <a:lnTo>
                    <a:pt x="280" y="480"/>
                  </a:lnTo>
                  <a:lnTo>
                    <a:pt x="140" y="50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71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69840" y="520560"/>
              <a:ext cx="3601800" cy="442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280" y="23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0" y="23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8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69840" y="539280"/>
              <a:ext cx="484920" cy="2862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0" y="265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3"/>
                  </a:lnTo>
                  <a:lnTo>
                    <a:pt x="0" y="288"/>
                  </a:lnTo>
                  <a:lnTo>
                    <a:pt x="0" y="313"/>
                  </a:lnTo>
                  <a:lnTo>
                    <a:pt x="140" y="313"/>
                  </a:lnTo>
                  <a:lnTo>
                    <a:pt x="140" y="265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212120" y="780840"/>
              <a:ext cx="2159280" cy="442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967" y="23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1247" y="23"/>
                  </a:lnTo>
                  <a:lnTo>
                    <a:pt x="1107" y="48"/>
                  </a:lnTo>
                  <a:lnTo>
                    <a:pt x="1247" y="48"/>
                  </a:lnTo>
                  <a:lnTo>
                    <a:pt x="1247" y="23"/>
                  </a:lnTo>
                  <a:lnTo>
                    <a:pt x="96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886840" y="6973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48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927440" y="697320"/>
              <a:ext cx="1202040" cy="442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927440" y="6098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0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0080" y="609840"/>
              <a:ext cx="2171520" cy="442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1254" y="24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974" y="24"/>
                  </a:lnTo>
                  <a:lnTo>
                    <a:pt x="1254" y="24"/>
                  </a:lnTo>
                  <a:lnTo>
                    <a:pt x="1254" y="0"/>
                  </a:lnTo>
                  <a:lnTo>
                    <a:pt x="1114" y="0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856680" y="628200"/>
              <a:ext cx="484920" cy="28476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312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264"/>
                  </a:lnTo>
                  <a:lnTo>
                    <a:pt x="140" y="312"/>
                  </a:lnTo>
                  <a:lnTo>
                    <a:pt x="280" y="312"/>
                  </a:lnTo>
                  <a:lnTo>
                    <a:pt x="280" y="288"/>
                  </a:lnTo>
                  <a:lnTo>
                    <a:pt x="140" y="31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0" y="868680"/>
              <a:ext cx="4098960" cy="442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0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287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0" y="438480"/>
              <a:ext cx="497160" cy="45576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0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7" y="504"/>
                  </a:lnTo>
                  <a:lnTo>
                    <a:pt x="287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2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571640" y="520560"/>
              <a:ext cx="3614040" cy="442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2087" y="23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1807" y="23"/>
                  </a:lnTo>
                  <a:lnTo>
                    <a:pt x="2087" y="23"/>
                  </a:lnTo>
                  <a:lnTo>
                    <a:pt x="2087" y="0"/>
                  </a:lnTo>
                  <a:lnTo>
                    <a:pt x="1953" y="0"/>
                  </a:lnTo>
                  <a:lnTo>
                    <a:pt x="208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701120" y="539280"/>
              <a:ext cx="484920" cy="2862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6" y="313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6" y="265"/>
                  </a:lnTo>
                  <a:lnTo>
                    <a:pt x="146" y="313"/>
                  </a:lnTo>
                  <a:lnTo>
                    <a:pt x="280" y="313"/>
                  </a:lnTo>
                  <a:lnTo>
                    <a:pt x="280" y="288"/>
                  </a:lnTo>
                  <a:lnTo>
                    <a:pt x="146" y="31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771880" y="780840"/>
              <a:ext cx="2181600" cy="442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0" y="23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771880" y="69732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0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14160" y="697320"/>
              <a:ext cx="1212120" cy="442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42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700" y="24"/>
                  </a:lnTo>
                  <a:lnTo>
                    <a:pt x="560" y="48"/>
                  </a:lnTo>
                  <a:lnTo>
                    <a:pt x="700" y="48"/>
                  </a:lnTo>
                  <a:lnTo>
                    <a:pt x="700" y="24"/>
                  </a:lnTo>
                  <a:lnTo>
                    <a:pt x="42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41720" y="609840"/>
              <a:ext cx="484920" cy="10764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48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814280" y="609840"/>
              <a:ext cx="2170080" cy="442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280" y="24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814280" y="628200"/>
              <a:ext cx="484920" cy="28476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264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2"/>
                  </a:lnTo>
                  <a:lnTo>
                    <a:pt x="0" y="288"/>
                  </a:lnTo>
                  <a:lnTo>
                    <a:pt x="0" y="312"/>
                  </a:lnTo>
                  <a:lnTo>
                    <a:pt x="140" y="312"/>
                  </a:lnTo>
                  <a:lnTo>
                    <a:pt x="140" y="26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56920" y="868680"/>
              <a:ext cx="4086720" cy="442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08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360" y="24"/>
                  </a:lnTo>
                  <a:lnTo>
                    <a:pt x="2220" y="48"/>
                  </a:lnTo>
                  <a:lnTo>
                    <a:pt x="2360" y="48"/>
                  </a:lnTo>
                  <a:lnTo>
                    <a:pt x="2360" y="24"/>
                  </a:lnTo>
                  <a:lnTo>
                    <a:pt x="20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658720" y="438480"/>
              <a:ext cx="484920" cy="45576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48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0" y="504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1640" y="438480"/>
              <a:ext cx="4329000" cy="37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68198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Lecture 10 -</a:t>
            </a:r>
            <a:fld id="{20A9BE75-2F5C-4AC2-BD1F-E9AB30EA22AB}" type="slidenum">
              <a:rPr b="0" lang="he-IL" sz="1400" spc="-1" strike="noStrike">
                <a:solidFill>
                  <a:srgbClr val="5e574e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3640" cy="6847200"/>
            <a:chOff x="0" y="0"/>
            <a:chExt cx="9143640" cy="6847200"/>
          </a:xfrm>
        </p:grpSpPr>
        <p:sp>
          <p:nvSpPr>
            <p:cNvPr id="89" name=""/>
            <p:cNvSpPr/>
            <p:nvPr/>
          </p:nvSpPr>
          <p:spPr>
            <a:xfrm>
              <a:off x="969840" y="2620080"/>
              <a:ext cx="3601800" cy="3340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0" y="24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140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69840" y="66852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2120" y="668520"/>
              <a:ext cx="2159280" cy="3340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1247" y="24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967" y="24"/>
                  </a:lnTo>
                  <a:lnTo>
                    <a:pt x="1247" y="24"/>
                  </a:lnTo>
                  <a:lnTo>
                    <a:pt x="1247" y="0"/>
                  </a:lnTo>
                  <a:lnTo>
                    <a:pt x="1107" y="0"/>
                  </a:lnTo>
                  <a:lnTo>
                    <a:pt x="124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86840" y="80856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119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1"/>
                  </a:lnTo>
                  <a:lnTo>
                    <a:pt x="140" y="119"/>
                  </a:lnTo>
                  <a:lnTo>
                    <a:pt x="280" y="119"/>
                  </a:lnTo>
                  <a:lnTo>
                    <a:pt x="280" y="95"/>
                  </a:lnTo>
                  <a:lnTo>
                    <a:pt x="140" y="119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7440" y="1283040"/>
              <a:ext cx="1202040" cy="3340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28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27440" y="147708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72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20"/>
                  </a:lnTo>
                  <a:lnTo>
                    <a:pt x="0" y="95"/>
                  </a:lnTo>
                  <a:lnTo>
                    <a:pt x="0" y="120"/>
                  </a:lnTo>
                  <a:lnTo>
                    <a:pt x="140" y="120"/>
                  </a:lnTo>
                  <a:lnTo>
                    <a:pt x="140" y="7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70080" y="1951560"/>
              <a:ext cx="2171520" cy="3340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974" y="23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1254" y="23"/>
                  </a:lnTo>
                  <a:lnTo>
                    <a:pt x="1114" y="48"/>
                  </a:lnTo>
                  <a:lnTo>
                    <a:pt x="1254" y="48"/>
                  </a:lnTo>
                  <a:lnTo>
                    <a:pt x="1254" y="23"/>
                  </a:lnTo>
                  <a:lnTo>
                    <a:pt x="974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56680" y="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4098960" cy="3340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287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50840"/>
              <a:ext cx="497160" cy="341820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456"/>
                  </a:moveTo>
                  <a:lnTo>
                    <a:pt x="287" y="480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504"/>
                  </a:lnTo>
                  <a:lnTo>
                    <a:pt x="0" y="480"/>
                  </a:lnTo>
                  <a:lnTo>
                    <a:pt x="0" y="504"/>
                  </a:lnTo>
                  <a:lnTo>
                    <a:pt x="140" y="504"/>
                  </a:lnTo>
                  <a:lnTo>
                    <a:pt x="140" y="456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2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1640" y="2620080"/>
              <a:ext cx="3614040" cy="3340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1807" y="24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2087" y="24"/>
                  </a:lnTo>
                  <a:lnTo>
                    <a:pt x="1953" y="49"/>
                  </a:lnTo>
                  <a:lnTo>
                    <a:pt x="2087" y="49"/>
                  </a:lnTo>
                  <a:lnTo>
                    <a:pt x="2087" y="24"/>
                  </a:lnTo>
                  <a:lnTo>
                    <a:pt x="1807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01120" y="66852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6" y="48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6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6" y="0"/>
                  </a:lnTo>
                  <a:lnTo>
                    <a:pt x="146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71880" y="668520"/>
              <a:ext cx="2181600" cy="3340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280" y="24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1880" y="80856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9">
                  <a:moveTo>
                    <a:pt x="140" y="71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119"/>
                  </a:lnTo>
                  <a:lnTo>
                    <a:pt x="0" y="95"/>
                  </a:lnTo>
                  <a:lnTo>
                    <a:pt x="0" y="119"/>
                  </a:lnTo>
                  <a:lnTo>
                    <a:pt x="140" y="119"/>
                  </a:lnTo>
                  <a:lnTo>
                    <a:pt x="140" y="71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4160" y="1283040"/>
              <a:ext cx="1212120" cy="3340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70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420" y="24"/>
                  </a:lnTo>
                  <a:lnTo>
                    <a:pt x="700" y="24"/>
                  </a:lnTo>
                  <a:lnTo>
                    <a:pt x="700" y="0"/>
                  </a:lnTo>
                  <a:lnTo>
                    <a:pt x="560" y="0"/>
                  </a:lnTo>
                  <a:lnTo>
                    <a:pt x="7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41720" y="147708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120"/>
                  </a:moveTo>
                  <a:lnTo>
                    <a:pt x="280" y="95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40" y="72"/>
                  </a:lnTo>
                  <a:lnTo>
                    <a:pt x="140" y="120"/>
                  </a:lnTo>
                  <a:lnTo>
                    <a:pt x="280" y="120"/>
                  </a:lnTo>
                  <a:lnTo>
                    <a:pt x="280" y="95"/>
                  </a:lnTo>
                  <a:lnTo>
                    <a:pt x="140" y="12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14280" y="1951560"/>
              <a:ext cx="2170080" cy="3340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0" y="23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14280" y="0"/>
              <a:ext cx="484920" cy="2091960"/>
            </a:xfrm>
            <a:custGeom>
              <a:avLst/>
              <a:gdLst/>
              <a:ahLst/>
              <a:rect l="l" t="t" r="r" b="b"/>
              <a:pathLst>
                <a:path w="280" h="311">
                  <a:moveTo>
                    <a:pt x="140" y="0"/>
                  </a:moveTo>
                  <a:lnTo>
                    <a:pt x="0" y="24"/>
                  </a:lnTo>
                  <a:lnTo>
                    <a:pt x="0" y="311"/>
                  </a:lnTo>
                  <a:lnTo>
                    <a:pt x="280" y="311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56920" y="0"/>
              <a:ext cx="4086720" cy="3340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36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080" y="24"/>
                  </a:lnTo>
                  <a:lnTo>
                    <a:pt x="2360" y="24"/>
                  </a:lnTo>
                  <a:lnTo>
                    <a:pt x="2360" y="0"/>
                  </a:lnTo>
                  <a:lnTo>
                    <a:pt x="2220" y="0"/>
                  </a:lnTo>
                  <a:lnTo>
                    <a:pt x="236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58720" y="150840"/>
              <a:ext cx="484920" cy="341820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504"/>
                  </a:moveTo>
                  <a:lnTo>
                    <a:pt x="280" y="480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140" y="456"/>
                  </a:lnTo>
                  <a:lnTo>
                    <a:pt x="140" y="504"/>
                  </a:lnTo>
                  <a:lnTo>
                    <a:pt x="280" y="504"/>
                  </a:lnTo>
                  <a:lnTo>
                    <a:pt x="280" y="480"/>
                  </a:lnTo>
                  <a:lnTo>
                    <a:pt x="140" y="50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1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69840" y="3903480"/>
              <a:ext cx="3601800" cy="334080"/>
            </a:xfrm>
            <a:custGeom>
              <a:avLst/>
              <a:gdLst/>
              <a:ahLst/>
              <a:rect l="l" t="t" r="r" b="b"/>
              <a:pathLst>
                <a:path w="2080" h="49">
                  <a:moveTo>
                    <a:pt x="280" y="23"/>
                  </a:moveTo>
                  <a:lnTo>
                    <a:pt x="140" y="49"/>
                  </a:lnTo>
                  <a:lnTo>
                    <a:pt x="2080" y="49"/>
                  </a:lnTo>
                  <a:lnTo>
                    <a:pt x="2080" y="0"/>
                  </a:lnTo>
                  <a:lnTo>
                    <a:pt x="140" y="0"/>
                  </a:lnTo>
                  <a:lnTo>
                    <a:pt x="0" y="23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8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69840" y="4043520"/>
              <a:ext cx="484920" cy="21456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0" y="265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3"/>
                  </a:lnTo>
                  <a:lnTo>
                    <a:pt x="0" y="288"/>
                  </a:lnTo>
                  <a:lnTo>
                    <a:pt x="0" y="313"/>
                  </a:lnTo>
                  <a:lnTo>
                    <a:pt x="140" y="313"/>
                  </a:lnTo>
                  <a:lnTo>
                    <a:pt x="140" y="265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2120" y="5855400"/>
              <a:ext cx="2159280" cy="334080"/>
            </a:xfrm>
            <a:custGeom>
              <a:avLst/>
              <a:gdLst/>
              <a:ahLst/>
              <a:rect l="l" t="t" r="r" b="b"/>
              <a:pathLst>
                <a:path w="1247" h="48">
                  <a:moveTo>
                    <a:pt x="967" y="23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07" y="48"/>
                  </a:lnTo>
                  <a:lnTo>
                    <a:pt x="1247" y="23"/>
                  </a:lnTo>
                  <a:lnTo>
                    <a:pt x="1107" y="48"/>
                  </a:lnTo>
                  <a:lnTo>
                    <a:pt x="1247" y="48"/>
                  </a:lnTo>
                  <a:lnTo>
                    <a:pt x="1247" y="23"/>
                  </a:lnTo>
                  <a:lnTo>
                    <a:pt x="96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86840" y="522972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48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27440" y="5229720"/>
              <a:ext cx="1202040" cy="334080"/>
            </a:xfrm>
            <a:custGeom>
              <a:avLst/>
              <a:gdLst/>
              <a:ahLst/>
              <a:rect l="l" t="t" r="r" b="b"/>
              <a:pathLst>
                <a:path w="694" h="48">
                  <a:moveTo>
                    <a:pt x="0" y="24"/>
                  </a:moveTo>
                  <a:lnTo>
                    <a:pt x="140" y="48"/>
                  </a:lnTo>
                  <a:lnTo>
                    <a:pt x="694" y="48"/>
                  </a:lnTo>
                  <a:lnTo>
                    <a:pt x="694" y="0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27440" y="457200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0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0080" y="4572000"/>
              <a:ext cx="2171520" cy="334080"/>
            </a:xfrm>
            <a:custGeom>
              <a:avLst/>
              <a:gdLst/>
              <a:ahLst/>
              <a:rect l="l" t="t" r="r" b="b"/>
              <a:pathLst>
                <a:path w="1254" h="48">
                  <a:moveTo>
                    <a:pt x="1254" y="24"/>
                  </a:moveTo>
                  <a:lnTo>
                    <a:pt x="1114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114" y="48"/>
                  </a:lnTo>
                  <a:lnTo>
                    <a:pt x="974" y="24"/>
                  </a:lnTo>
                  <a:lnTo>
                    <a:pt x="1254" y="24"/>
                  </a:lnTo>
                  <a:lnTo>
                    <a:pt x="1254" y="0"/>
                  </a:lnTo>
                  <a:lnTo>
                    <a:pt x="1114" y="0"/>
                  </a:lnTo>
                  <a:lnTo>
                    <a:pt x="1254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6680" y="4712400"/>
              <a:ext cx="484920" cy="213480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312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264"/>
                  </a:lnTo>
                  <a:lnTo>
                    <a:pt x="140" y="312"/>
                  </a:lnTo>
                  <a:lnTo>
                    <a:pt x="280" y="312"/>
                  </a:lnTo>
                  <a:lnTo>
                    <a:pt x="280" y="288"/>
                  </a:lnTo>
                  <a:lnTo>
                    <a:pt x="140" y="312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6513120"/>
              <a:ext cx="4098960" cy="334080"/>
            </a:xfrm>
            <a:custGeom>
              <a:avLst/>
              <a:gdLst/>
              <a:ahLst/>
              <a:rect l="l" t="t" r="r" b="b"/>
              <a:pathLst>
                <a:path w="2367" h="48">
                  <a:moveTo>
                    <a:pt x="0" y="24"/>
                  </a:moveTo>
                  <a:lnTo>
                    <a:pt x="140" y="48"/>
                  </a:lnTo>
                  <a:lnTo>
                    <a:pt x="2367" y="48"/>
                  </a:lnTo>
                  <a:lnTo>
                    <a:pt x="2367" y="0"/>
                  </a:lnTo>
                  <a:lnTo>
                    <a:pt x="140" y="0"/>
                  </a:lnTo>
                  <a:lnTo>
                    <a:pt x="287" y="24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3288960"/>
              <a:ext cx="497160" cy="3418200"/>
            </a:xfrm>
            <a:custGeom>
              <a:avLst/>
              <a:gdLst/>
              <a:ahLst/>
              <a:rect l="l" t="t" r="r" b="b"/>
              <a:pathLst>
                <a:path w="287" h="504">
                  <a:moveTo>
                    <a:pt x="140" y="0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7" y="504"/>
                  </a:lnTo>
                  <a:lnTo>
                    <a:pt x="287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2500" y="24"/>
                  </a:moveTo>
                  <a:lnTo>
                    <a:pt x="250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500" y="48"/>
                  </a:lnTo>
                  <a:lnTo>
                    <a:pt x="2500" y="24"/>
                  </a:lnTo>
                  <a:lnTo>
                    <a:pt x="250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1640" y="3903480"/>
              <a:ext cx="3614040" cy="334080"/>
            </a:xfrm>
            <a:custGeom>
              <a:avLst/>
              <a:gdLst/>
              <a:ahLst/>
              <a:rect l="l" t="t" r="r" b="b"/>
              <a:pathLst>
                <a:path w="2087" h="49">
                  <a:moveTo>
                    <a:pt x="2087" y="23"/>
                  </a:moveTo>
                  <a:lnTo>
                    <a:pt x="1953" y="0"/>
                  </a:lnTo>
                  <a:lnTo>
                    <a:pt x="0" y="0"/>
                  </a:lnTo>
                  <a:lnTo>
                    <a:pt x="0" y="49"/>
                  </a:lnTo>
                  <a:lnTo>
                    <a:pt x="1953" y="49"/>
                  </a:lnTo>
                  <a:lnTo>
                    <a:pt x="1807" y="23"/>
                  </a:lnTo>
                  <a:lnTo>
                    <a:pt x="2087" y="23"/>
                  </a:lnTo>
                  <a:lnTo>
                    <a:pt x="2087" y="0"/>
                  </a:lnTo>
                  <a:lnTo>
                    <a:pt x="1953" y="0"/>
                  </a:lnTo>
                  <a:lnTo>
                    <a:pt x="2087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01120" y="4043520"/>
              <a:ext cx="484920" cy="2145600"/>
            </a:xfrm>
            <a:custGeom>
              <a:avLst/>
              <a:gdLst/>
              <a:ahLst/>
              <a:rect l="l" t="t" r="r" b="b"/>
              <a:pathLst>
                <a:path w="280" h="313">
                  <a:moveTo>
                    <a:pt x="146" y="313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6" y="265"/>
                  </a:lnTo>
                  <a:lnTo>
                    <a:pt x="146" y="313"/>
                  </a:lnTo>
                  <a:lnTo>
                    <a:pt x="280" y="313"/>
                  </a:lnTo>
                  <a:lnTo>
                    <a:pt x="280" y="288"/>
                  </a:lnTo>
                  <a:lnTo>
                    <a:pt x="146" y="31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71880" y="5855400"/>
              <a:ext cx="2181600" cy="334080"/>
            </a:xfrm>
            <a:custGeom>
              <a:avLst/>
              <a:gdLst/>
              <a:ahLst/>
              <a:rect l="l" t="t" r="r" b="b"/>
              <a:pathLst>
                <a:path w="1260" h="48">
                  <a:moveTo>
                    <a:pt x="0" y="23"/>
                  </a:moveTo>
                  <a:lnTo>
                    <a:pt x="140" y="48"/>
                  </a:lnTo>
                  <a:lnTo>
                    <a:pt x="1260" y="48"/>
                  </a:lnTo>
                  <a:lnTo>
                    <a:pt x="1260" y="0"/>
                  </a:lnTo>
                  <a:lnTo>
                    <a:pt x="140" y="0"/>
                  </a:lnTo>
                  <a:lnTo>
                    <a:pt x="280" y="23"/>
                  </a:lnTo>
                  <a:lnTo>
                    <a:pt x="0" y="23"/>
                  </a:lnTo>
                  <a:lnTo>
                    <a:pt x="0" y="48"/>
                  </a:lnTo>
                  <a:lnTo>
                    <a:pt x="140" y="4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71880" y="522972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18">
                  <a:moveTo>
                    <a:pt x="140" y="0"/>
                  </a:moveTo>
                  <a:lnTo>
                    <a:pt x="0" y="24"/>
                  </a:lnTo>
                  <a:lnTo>
                    <a:pt x="0" y="118"/>
                  </a:lnTo>
                  <a:lnTo>
                    <a:pt x="280" y="118"/>
                  </a:lnTo>
                  <a:lnTo>
                    <a:pt x="280" y="24"/>
                  </a:lnTo>
                  <a:lnTo>
                    <a:pt x="140" y="48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14160" y="5229720"/>
              <a:ext cx="1212120" cy="334080"/>
            </a:xfrm>
            <a:custGeom>
              <a:avLst/>
              <a:gdLst/>
              <a:ahLst/>
              <a:rect l="l" t="t" r="r" b="b"/>
              <a:pathLst>
                <a:path w="700" h="48">
                  <a:moveTo>
                    <a:pt x="420" y="24"/>
                  </a:moveTo>
                  <a:lnTo>
                    <a:pt x="56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60" y="48"/>
                  </a:lnTo>
                  <a:lnTo>
                    <a:pt x="700" y="24"/>
                  </a:lnTo>
                  <a:lnTo>
                    <a:pt x="560" y="48"/>
                  </a:lnTo>
                  <a:lnTo>
                    <a:pt x="700" y="48"/>
                  </a:lnTo>
                  <a:lnTo>
                    <a:pt x="700" y="24"/>
                  </a:lnTo>
                  <a:lnTo>
                    <a:pt x="42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41720" y="4572000"/>
              <a:ext cx="484920" cy="808560"/>
            </a:xfrm>
            <a:custGeom>
              <a:avLst/>
              <a:gdLst/>
              <a:ahLst/>
              <a:rect l="l" t="t" r="r" b="b"/>
              <a:pathLst>
                <a:path w="280" h="120">
                  <a:moveTo>
                    <a:pt x="140" y="48"/>
                  </a:moveTo>
                  <a:lnTo>
                    <a:pt x="0" y="24"/>
                  </a:lnTo>
                  <a:lnTo>
                    <a:pt x="0" y="120"/>
                  </a:lnTo>
                  <a:lnTo>
                    <a:pt x="280" y="120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14280" y="4572000"/>
              <a:ext cx="2170080" cy="334080"/>
            </a:xfrm>
            <a:custGeom>
              <a:avLst/>
              <a:gdLst/>
              <a:ahLst/>
              <a:rect l="l" t="t" r="r" b="b"/>
              <a:pathLst>
                <a:path w="1253" h="48">
                  <a:moveTo>
                    <a:pt x="280" y="24"/>
                  </a:moveTo>
                  <a:lnTo>
                    <a:pt x="140" y="48"/>
                  </a:lnTo>
                  <a:lnTo>
                    <a:pt x="1253" y="48"/>
                  </a:lnTo>
                  <a:lnTo>
                    <a:pt x="1253" y="0"/>
                  </a:lnTo>
                  <a:lnTo>
                    <a:pt x="140" y="0"/>
                  </a:lnTo>
                  <a:lnTo>
                    <a:pt x="0" y="24"/>
                  </a:lnTo>
                  <a:lnTo>
                    <a:pt x="14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14280" y="4712400"/>
              <a:ext cx="484920" cy="2134800"/>
            </a:xfrm>
            <a:custGeom>
              <a:avLst/>
              <a:gdLst/>
              <a:ahLst/>
              <a:rect l="l" t="t" r="r" b="b"/>
              <a:pathLst>
                <a:path w="280" h="312">
                  <a:moveTo>
                    <a:pt x="140" y="264"/>
                  </a:moveTo>
                  <a:lnTo>
                    <a:pt x="280" y="288"/>
                  </a:lnTo>
                  <a:lnTo>
                    <a:pt x="280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140" y="312"/>
                  </a:lnTo>
                  <a:lnTo>
                    <a:pt x="0" y="288"/>
                  </a:lnTo>
                  <a:lnTo>
                    <a:pt x="0" y="312"/>
                  </a:lnTo>
                  <a:lnTo>
                    <a:pt x="140" y="312"/>
                  </a:lnTo>
                  <a:lnTo>
                    <a:pt x="140" y="26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56920" y="6513120"/>
              <a:ext cx="4086720" cy="334080"/>
            </a:xfrm>
            <a:custGeom>
              <a:avLst/>
              <a:gdLst/>
              <a:ahLst/>
              <a:rect l="l" t="t" r="r" b="b"/>
              <a:pathLst>
                <a:path w="2360" h="48">
                  <a:moveTo>
                    <a:pt x="2080" y="24"/>
                  </a:moveTo>
                  <a:lnTo>
                    <a:pt x="2220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2220" y="48"/>
                  </a:lnTo>
                  <a:lnTo>
                    <a:pt x="2360" y="24"/>
                  </a:lnTo>
                  <a:lnTo>
                    <a:pt x="2220" y="48"/>
                  </a:lnTo>
                  <a:lnTo>
                    <a:pt x="2360" y="48"/>
                  </a:lnTo>
                  <a:lnTo>
                    <a:pt x="2360" y="24"/>
                  </a:lnTo>
                  <a:lnTo>
                    <a:pt x="208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58720" y="3288960"/>
              <a:ext cx="484920" cy="3418200"/>
            </a:xfrm>
            <a:custGeom>
              <a:avLst/>
              <a:gdLst/>
              <a:ahLst/>
              <a:rect l="l" t="t" r="r" b="b"/>
              <a:pathLst>
                <a:path w="280" h="504">
                  <a:moveTo>
                    <a:pt x="140" y="48"/>
                  </a:moveTo>
                  <a:lnTo>
                    <a:pt x="0" y="24"/>
                  </a:lnTo>
                  <a:lnTo>
                    <a:pt x="0" y="504"/>
                  </a:lnTo>
                  <a:lnTo>
                    <a:pt x="280" y="504"/>
                  </a:lnTo>
                  <a:lnTo>
                    <a:pt x="280" y="24"/>
                  </a:lnTo>
                  <a:lnTo>
                    <a:pt x="140" y="0"/>
                  </a:lnTo>
                  <a:lnTo>
                    <a:pt x="280" y="24"/>
                  </a:lnTo>
                  <a:lnTo>
                    <a:pt x="280" y="0"/>
                  </a:lnTo>
                  <a:lnTo>
                    <a:pt x="140" y="0"/>
                  </a:lnTo>
                  <a:lnTo>
                    <a:pt x="140" y="48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1640" y="3288960"/>
              <a:ext cx="4329000" cy="280080"/>
            </a:xfrm>
            <a:custGeom>
              <a:avLst/>
              <a:gdLst/>
              <a:ahLst/>
              <a:rect l="l" t="t" r="r" b="b"/>
              <a:pathLst>
                <a:path w="2500" h="48">
                  <a:moveTo>
                    <a:pt x="0" y="24"/>
                  </a:moveTo>
                  <a:lnTo>
                    <a:pt x="0" y="48"/>
                  </a:lnTo>
                  <a:lnTo>
                    <a:pt x="2500" y="48"/>
                  </a:lnTo>
                  <a:lnTo>
                    <a:pt x="250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fcc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&lt;footer&gt;</a:t>
            </a:r>
            <a:r>
              <a:rPr b="0" lang="en-US" sz="1400" spc="-1" strike="noStrike">
                <a:solidFill>
                  <a:srgbClr val="5e574e"/>
                </a:solidFill>
                <a:latin typeface="Arial"/>
                <a:ea typeface="Arial"/>
              </a:rPr>
              <a:t>U-Haifa – CS / Spring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e574e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c0c0c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c0c0c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 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Coord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 Chapter 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78600" y="25225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vi Yehud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86240" y="1301760"/>
            <a:ext cx="1333440" cy="944640"/>
          </a:xfrm>
          <a:prstGeom prst="ellipse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59520" y="4556160"/>
            <a:ext cx="1333440" cy="9446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120" y="4600440"/>
            <a:ext cx="1333440" cy="944640"/>
          </a:xfrm>
          <a:prstGeom prst="ellipse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521720" y="1945080"/>
            <a:ext cx="4733280" cy="2793600"/>
            <a:chOff x="1521720" y="1945080"/>
            <a:chExt cx="4733280" cy="2793600"/>
          </a:xfrm>
        </p:grpSpPr>
        <p:cxnSp>
          <p:nvCxnSpPr>
            <p:cNvPr id="205" name=""/>
            <p:cNvCxnSpPr>
              <a:stCxn id="201" idx="3"/>
              <a:endCxn id="203" idx="7"/>
            </p:cNvCxnSpPr>
            <p:nvPr/>
          </p:nvCxnSpPr>
          <p:spPr>
            <a:xfrm flipH="1">
              <a:off x="1521720" y="2107800"/>
              <a:ext cx="2159640" cy="2631240"/>
            </a:xfrm>
            <a:prstGeom prst="straightConnector1">
              <a:avLst/>
            </a:prstGeom>
            <a:ln w="9360">
              <a:solidFill>
                <a:srgbClr val="339966"/>
              </a:solidFill>
              <a:miter/>
              <a:tailEnd len="lg" type="stealth" w="lg"/>
            </a:ln>
          </p:spPr>
        </p:cxnSp>
        <p:cxnSp>
          <p:nvCxnSpPr>
            <p:cNvPr id="206" name=""/>
            <p:cNvCxnSpPr>
              <a:stCxn id="201" idx="5"/>
              <a:endCxn id="202" idx="1"/>
            </p:cNvCxnSpPr>
            <p:nvPr/>
          </p:nvCxnSpPr>
          <p:spPr>
            <a:xfrm>
              <a:off x="4624560" y="2108160"/>
              <a:ext cx="1630800" cy="2586960"/>
            </a:xfrm>
            <a:prstGeom prst="straightConnector1">
              <a:avLst/>
            </a:prstGeom>
            <a:ln w="9360">
              <a:solidFill>
                <a:srgbClr val="339966"/>
              </a:solidFill>
              <a:miter/>
              <a:tailEnd len="lg" type="stealth" w="lg"/>
            </a:ln>
          </p:spPr>
        </p:cxnSp>
        <p:sp>
          <p:nvSpPr>
            <p:cNvPr id="207" name=""/>
            <p:cNvSpPr/>
            <p:nvPr/>
          </p:nvSpPr>
          <p:spPr>
            <a:xfrm rot="18678000">
              <a:off x="2126520" y="2480040"/>
              <a:ext cx="1549080" cy="276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quest(P1,1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3472800">
              <a:off x="4413240" y="2574360"/>
              <a:ext cx="1549440" cy="276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quest(P1,1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521720" y="2246040"/>
            <a:ext cx="4732560" cy="3423240"/>
            <a:chOff x="1521720" y="2246040"/>
            <a:chExt cx="4732560" cy="3423240"/>
          </a:xfrm>
        </p:grpSpPr>
        <p:sp>
          <p:nvSpPr>
            <p:cNvPr id="210" name=""/>
            <p:cNvSpPr/>
            <p:nvPr/>
          </p:nvSpPr>
          <p:spPr>
            <a:xfrm rot="3232800">
              <a:off x="4568040" y="4354920"/>
              <a:ext cx="1549440" cy="276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quest(P3,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/>
            <p:nvPr/>
          </p:nvCxnSpPr>
          <p:spPr>
            <a:xfrm flipH="1" flipV="1">
              <a:off x="4152600" y="2246040"/>
              <a:ext cx="1907280" cy="2783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</p:cxnSp>
        <p:sp>
          <p:nvSpPr>
            <p:cNvPr id="212" name=""/>
            <p:cNvSpPr/>
            <p:nvPr/>
          </p:nvSpPr>
          <p:spPr>
            <a:xfrm>
              <a:off x="4457880" y="5392800"/>
              <a:ext cx="1549080" cy="276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quest(P3,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/>
            <p:nvPr/>
          </p:nvCxnSpPr>
          <p:spPr>
            <a:xfrm flipH="1">
              <a:off x="1521720" y="5362560"/>
              <a:ext cx="4732920" cy="453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lg" type="stealth" w="lg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595440" y="1774080"/>
            <a:ext cx="6130080" cy="4406760"/>
            <a:chOff x="595440" y="1774080"/>
            <a:chExt cx="6130080" cy="4406760"/>
          </a:xfrm>
        </p:grpSpPr>
        <p:grpSp>
          <p:nvGrpSpPr>
            <p:cNvPr id="215" name=""/>
            <p:cNvGrpSpPr/>
            <p:nvPr/>
          </p:nvGrpSpPr>
          <p:grpSpPr>
            <a:xfrm>
              <a:off x="1049760" y="5500080"/>
              <a:ext cx="5675760" cy="680760"/>
              <a:chOff x="1049760" y="5500080"/>
              <a:chExt cx="5675760" cy="680760"/>
            </a:xfrm>
          </p:grpSpPr>
          <p:cxnSp>
            <p:nvCxnSpPr>
              <p:cNvPr id="216" name=""/>
              <p:cNvCxnSpPr>
                <a:stCxn id="203" idx="4"/>
                <a:endCxn id="202" idx="4"/>
              </p:cNvCxnSpPr>
              <p:nvPr/>
            </p:nvCxnSpPr>
            <p:spPr>
              <a:xfrm flipH="1" flipV="1" rot="5400000">
                <a:off x="3865320" y="2684520"/>
                <a:ext cx="45000" cy="5676120"/>
              </a:xfrm>
              <a:prstGeom prst="curvedConnector5">
                <a:avLst>
                  <a:gd name="adj1" fmla="val -1425000"/>
                  <a:gd name="adj2" fmla="val 50000"/>
                  <a:gd name="adj3" fmla="val -1425000"/>
                </a:avLst>
              </a:prstGeom>
              <a:ln w="9360">
                <a:solidFill>
                  <a:srgbClr val="00ccff"/>
                </a:solidFill>
                <a:miter/>
                <a:tailEnd len="lg" type="triangle" w="lg"/>
              </a:ln>
            </p:spPr>
          </p:cxnSp>
          <p:sp>
            <p:nvSpPr>
              <p:cNvPr id="217" name=""/>
              <p:cNvSpPr/>
              <p:nvPr/>
            </p:nvSpPr>
            <p:spPr>
              <a:xfrm rot="21400800">
                <a:off x="3293640" y="5814720"/>
                <a:ext cx="801720" cy="2764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93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Repl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95440" y="1774080"/>
              <a:ext cx="2907000" cy="2964240"/>
              <a:chOff x="595440" y="1774080"/>
              <a:chExt cx="2907000" cy="2964240"/>
            </a:xfrm>
          </p:grpSpPr>
          <p:cxnSp>
            <p:nvCxnSpPr>
              <p:cNvPr id="219" name=""/>
              <p:cNvCxnSpPr/>
              <p:nvPr/>
            </p:nvCxnSpPr>
            <p:spPr>
              <a:xfrm flipH="1" flipV="1" rot="5400000">
                <a:off x="566640" y="1802880"/>
                <a:ext cx="2964600" cy="2907360"/>
              </a:xfrm>
              <a:prstGeom prst="curvedConnector2">
                <a:avLst/>
              </a:prstGeom>
              <a:ln w="9360">
                <a:solidFill>
                  <a:srgbClr val="00ccff"/>
                </a:solidFill>
                <a:miter/>
                <a:tailEnd len="lg" type="triangle" w="lg"/>
              </a:ln>
            </p:spPr>
          </p:cxnSp>
          <p:sp>
            <p:nvSpPr>
              <p:cNvPr id="220" name=""/>
              <p:cNvSpPr/>
              <p:nvPr/>
            </p:nvSpPr>
            <p:spPr>
              <a:xfrm rot="18145200">
                <a:off x="1120680" y="2792520"/>
                <a:ext cx="801360" cy="276480"/>
              </a:xfrm>
              <a:prstGeom prst="rect">
                <a:avLst/>
              </a:prstGeom>
              <a:solidFill>
                <a:srgbClr val="33cccc">
                  <a:alpha val="50000"/>
                </a:srgbClr>
              </a:solidFill>
              <a:ln w="936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Reply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4819680" y="1746720"/>
            <a:ext cx="1906920" cy="2809800"/>
            <a:chOff x="4819680" y="1746720"/>
            <a:chExt cx="1906920" cy="2809800"/>
          </a:xfrm>
        </p:grpSpPr>
        <p:cxnSp>
          <p:nvCxnSpPr>
            <p:cNvPr id="222" name=""/>
            <p:cNvCxnSpPr>
              <a:stCxn id="201" idx="6"/>
              <a:endCxn id="202" idx="0"/>
            </p:cNvCxnSpPr>
            <p:nvPr/>
          </p:nvCxnSpPr>
          <p:spPr>
            <a:xfrm>
              <a:off x="4819680" y="1774800"/>
              <a:ext cx="1907280" cy="2782080"/>
            </a:xfrm>
            <a:prstGeom prst="curvedConnector2">
              <a:avLst/>
            </a:prstGeom>
            <a:ln w="9360">
              <a:solidFill>
                <a:srgbClr val="339966"/>
              </a:solidFill>
              <a:miter/>
              <a:tailEnd len="lg" type="triangle" w="lg"/>
            </a:ln>
          </p:spPr>
        </p:cxnSp>
        <p:sp>
          <p:nvSpPr>
            <p:cNvPr id="223" name=""/>
            <p:cNvSpPr/>
            <p:nvPr/>
          </p:nvSpPr>
          <p:spPr>
            <a:xfrm rot="3355200">
              <a:off x="5621040" y="2017800"/>
              <a:ext cx="801360" cy="2764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ply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73840" y="103500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1 and P3 want 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73840" y="1434960"/>
            <a:ext cx="22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1 sends request to P2, 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73840" y="263844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1 replies to P3 (4 &lt; 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73840" y="303840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3 enter its 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3840" y="34401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3 replies to 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3840" y="384192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1 enters its 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70400" y="1797120"/>
            <a:ext cx="325440" cy="2952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89760" y="4896000"/>
            <a:ext cx="325440" cy="2952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73840" y="223668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2 replies immedi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73840" y="183672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3 sends request to P1, 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19320" y="1774440"/>
            <a:ext cx="2860920" cy="3155400"/>
            <a:chOff x="4819320" y="1774440"/>
            <a:chExt cx="2860920" cy="3155400"/>
          </a:xfrm>
        </p:grpSpPr>
        <p:cxnSp>
          <p:nvCxnSpPr>
            <p:cNvPr id="235" name=""/>
            <p:cNvCxnSpPr>
              <a:stCxn id="202" idx="7"/>
              <a:endCxn id="201" idx="6"/>
            </p:cNvCxnSpPr>
            <p:nvPr/>
          </p:nvCxnSpPr>
          <p:spPr>
            <a:xfrm flipV="1" rot="16200000">
              <a:off x="4548600" y="2044800"/>
              <a:ext cx="2920320" cy="2378880"/>
            </a:xfrm>
            <a:prstGeom prst="curvedConnector2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</p:cxnSp>
        <p:sp>
          <p:nvSpPr>
            <p:cNvPr id="236" name=""/>
            <p:cNvSpPr/>
            <p:nvPr/>
          </p:nvSpPr>
          <p:spPr>
            <a:xfrm rot="4970400">
              <a:off x="7092000" y="4376520"/>
              <a:ext cx="801720" cy="2764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Reply(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4.98262E-007 C -0.00105 -0.00301 -0.00209 -0.00603 -0.0033 -0.00904 C -0.00434 -0.01136 -0.00591 -0.01344 -0.00677 -0.01599 C -0.01268 -0.03175 -0.01598 -0.04403 -0.02882 -0.04983 C -0.05174 -0.04867 -0.06528 -0.05562 -0.08125 -0.04079 C -0.08177 -0.03847 -0.08195 -0.03592 -0.08299 -0.03407 C -0.08421 -0.03198 -0.08698 -0.03175 -0.08802 -0.02943 C -0.08993 -0.02549 -0.09028 -0.02039 -0.0915 -0.01599 C -0.09202 -0.01367 -0.09323 -0.00904 -0.09323 -0.00904 C -0.09202 0.01784 -0.09566 0.04079 -0.07448 0.04959 C -0.06927 0.05423 -0.06511 0.05631 -0.05921 0.05863 C -0.05243 0.05794 -0.04566 0.05771 -0.03889 0.05655 C -0.03299 0.05562 -0.03421 0.05307 -0.02882 0.04959 C -0.02552 0.04751 -0.02205 0.04681 -0.01858 0.04519 C -0.01736 0.04287 -0.01667 0.04009 -0.01511 0.03847 C -0.01372 0.03708 -0.01129 0.03777 -0.01007 0.03615 C -0.00191 0.02526 -0.00139 0.0146 1.94444E-006 -4.98262E-007 Z">
                                      <p:cBhvr>
                                        <p:cTn id="46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-0.04311 C 0.00729 -0.05701 0.00816 -0.07903 -0.00173 -0.0883 C -0.00781 -0.09409 -0.01666 -0.09919 -0.02378 -0.10174 C -0.0283 -0.10336 -0.03732 -0.10637 -0.03732 -0.10637 C -0.04896 -0.10498 -0.05868 -0.10406 -0.06962 -0.09965 C -0.08889 -0.08204 -0.06163 -0.10614 -0.07969 -0.0927 C -0.08333 -0.09015 -0.08993 -0.08366 -0.08993 -0.08366 C -0.1 -0.0635 -0.10746 -0.04403 -0.11198 -0.02039 C -0.11041 -0.0044 -0.11111 0.00811 -0.09844 0.01344 C -0.09097 0.0285 -0.08021 0.03198 -0.06788 0.03615 C -0.05937 0.03546 -0.05087 0.03499 -0.04253 0.03384 C -0.02656 0.03152 -0.01094 0.0146 -2.5E-006 3.75435E-006 E">
                                      <p:cBhvr>
                                        <p:cTn id="58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5320" y="152280"/>
            <a:ext cx="898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able Behavior of Fully Distribut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utual exclus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ensu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ad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ens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dom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tarv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ensured, since entry to the critical section is scheduled according to the timestamp ordering.  The timestamp ordering ensures that processes are served in a first-come, first served ord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messages per critical-section entry is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x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– 1)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minimum number of required messages per critical-section entry when processes act independently and concurrentl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es need to know the identity of all other processes in the system, which makes the dynamic addition and removal of processes more complex (join or leave a group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ne of the processes fails, then the entire scheme collapses.  This can be dealt with by continuously monitoring the state of all the processes in the syste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es that have not entered their critical section must pause frequently to assure other processes that intend to enter their critical sectio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tocol is therefore suited for small, stable sets of cooperating proc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 Transactions (from Ch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Model – aimed at Database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types : Volatile Storage, Nonvolatile Storage, Stabl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ransa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collection of instructions that perform single logic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Sequence of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ad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write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operations terminated by either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mit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abort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An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aborted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transaction must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oll-back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mitted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transaction cannot b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done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tomi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 or 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based recovery – a way to ensur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tomi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record all modif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-ahead-logging: log = records for all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Transaction name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Data item name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Old value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New Value</a:t>
            </a:r>
            <a:endParaRPr b="1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,start&gt; - &lt;T,w1&gt; - w1 … &lt;T,wn&gt; - wn - &lt;T commit&gt; or &lt;T,abor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O(T) – restore to ol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O(T) – sets to new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i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all the operations associated with a program unit are executed to completion, or none are performed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ing atomicity in a distributed system requires a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transaction coord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ich is responsible for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execution of the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ing the transaction into a number of subtransactions, and distribution these subtransactions to the appropriate sites for exec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ing the termination of the transaction, which may result in the transaction being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mmi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tes or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bor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t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each site uses a local log for recovery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-Phase Commit Protocol (2P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ansaction coordinator must execute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mmit protoc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on of the protocol is initiated by the coordinator after the last step of the transaction has been reach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tocol is initiated, the transaction may still be executing at some of the local site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tocol involves all the local sites at which the transaction execut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 Le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a transaction initiated at sit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let the transaction coordinator 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1:  Obtaining a D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s &lt;prep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record to the lo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nds &lt;prep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message to all s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ite receives a &lt;prep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message, the local transaction manager determines if it can commit the transa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:  add &lt;n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record to the log and respon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&lt;abo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add &lt;ready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&gt; record to the log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forc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all log records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for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onto stable storage. 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ransaction manager sends &lt;ready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&gt; message to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1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llects respo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respond “ready”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response is “abort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participant fails to respond within time out period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3360" y="174600"/>
            <a:ext cx="85406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 2:  Recording Decision in the Data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or adds a decision recor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abor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or &lt;commi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its log and forces record onto stable stor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that record reaches stable storage it is irrevocable (even if failures occur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or sends a message to each participant informing it of the decision (commit or abort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nts take appropriate action locally and records the final message to their lo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ure Handling in 2PC – Site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g contains a &lt;commi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record.  In this case, the site execu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g contains an &lt;abor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record.  In this case, the site execu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g contains a &lt;read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 record; consul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down, site se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-sta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ssage to the other site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ote: the node at whi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ides always has the information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g contains no control records concern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In this case, the site execu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ordin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lected topic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14300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t Orde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ual Exclus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omi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 Contr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dlock Hand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ion Algori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ing Agre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ure Handling in 2PC – Coordinator Ci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n active site contains a &lt;commit T&gt; record in its log, the T must be commit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n active site contains an &lt;abort T&gt; record in its log, then T must be abo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ome active site does not contain the record &lt;ready T&gt; in its log then the failed coordinator Ci cannot have decided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 T.  Rather than wait for Ci to recover, it is preferable to abort 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e only possibility now is …) All active sites have a &lt;ready T&gt; record in their logs, but no additional control records.  In this case we must wait for the coordinator to recov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problem  – T is blocked pending the recovery of site Si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failure – reduced to already discussed case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urrency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y the centralized concurrency schemes to accommodate the distribution of transaction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action manager coordinates execution of transactions (or subtransactions) that access data at local site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 transaction only executes at that site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transaction executes at several sit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ing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wo-phase lock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 in a distributed environment by changing how the lock manager is implement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assum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xclu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ck mod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7375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replicated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is replicated in the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ite maintains a local lock manager which administer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loc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s for those data items that are stored in that si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implementation involves two message transfers for handling lock requests (lock-request-message and when resource is available lock-granted-message), and one message transfer for handling unlock req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ock handling is more complex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-Coordinator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lock manager resides in a single chosen site, all lock and unlock requests are made a that sit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Simple implement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Simple deadlock handling (as we already discussed…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Possibility of bottlene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Vulnerable to loss of concurrency controller if single site fail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Multiple-coordinat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tributes lock-manager function over several sit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ity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drawbacks of central control by dealing with replicated data in a decentralized manner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complicated to implement [  2 (n/2 + 1) msgs for lock ]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dlock-handling algorithms must be modified; possible for deadlock to occur in locking only one data ite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n 4 sites fully replicated (majority at-least 3)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1, T2 request exclusive lock on resource R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1 succeeds on S1, S2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2 succeeds on S3, S4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ow they both wait on 3</a:t>
            </a:r>
            <a:r>
              <a:rPr b="1" lang="en-US" sz="1800" spc="-1" strike="noStrike" baseline="30000">
                <a:solidFill>
                  <a:srgbClr val="808080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ite – deadlock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ased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to majority protocol, but requests for shared locks prioritized over requests for exclusive lock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overhead on read operations than in majority protocol; but has additional overhead on write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majority protocol, deadlock handling is comple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ary Cop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of the sites at which a replica resides is designated as the primary site.  Request to lock a data item is made at the primary site of that data ite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urrency control for replicated data handled in a manner similar to that of unreplicated data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implementation, but if primary site fails, the data item is unavailable, even though other sites may have a replic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am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 unique timestamps in distributed schem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ite generates a unique local timesta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unique timestamp is obtained by concatenation of the unique local timestamp with the unique site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fined within each site to ensure the fair generation of timestamp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stamp-ordering scheme – combine the centralized concurrency control timestamp scheme with the 2PC protocol to obtain a protocol that ensures serializability with no cascading rollbac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1640" y="3441600"/>
            <a:ext cx="6977160" cy="1104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776160" y="3441240"/>
            <a:ext cx="7328160" cy="10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on of Unique Timestam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712" t="26018" r="354" b="22461"/>
          <a:stretch/>
        </p:blipFill>
        <p:spPr>
          <a:xfrm>
            <a:off x="696960" y="1609560"/>
            <a:ext cx="7831080" cy="305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 Or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Happened-befor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 (denoted by </a:t>
            </a:r>
            <a:r>
              <a:rPr b="0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vents in the same process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executed bef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event of sending a message by one proces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event of receiving that message by another process, then </a:t>
            </a:r>
            <a:br>
              <a:rPr sz="2000"/>
            </a:b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396200" y="0"/>
            <a:ext cx="1485720" cy="9334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-ordering deadlock-prevention – define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dering among the system resourc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a unique number to all system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may request a resource with unique numb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ly if it is not holding a resource with a unique number grater tha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to implement; requires little overhea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er’s algorithm – designate one of the processes in the system as the process that maintains the information necessary to carry out the Banker’s algorith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implemented easily, but may require too much over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4840" y="152280"/>
            <a:ext cx="77439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amped Deadlock-Prevention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roces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ssigned a unique priority numb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ority numbers are used to decide whether a proces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hould wait for a proces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otherwi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rolled back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cheme prevents deadlocks.  For every edg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wait-for graph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a higher priority th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Thus a cycle cannot ex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37400" y="0"/>
            <a:ext cx="14860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-Die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256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a nonpreemptive techniqu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quests a resource currently hel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llowed to wait only if it has a smaller timestamp than do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older th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 Otherwise, 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rolled back (dies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 Suppose that process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timestamps t, 10, and 15 respective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est a resource hel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wa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rolled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396200" y="0"/>
            <a:ext cx="1485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uld-Wait Sch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d on a preemptive technique; counterpart to the wait-die syste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quests a resource currently hel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llowed to wait only if it has a larger timestamp than do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younger tha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 Otherwi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rolled back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wound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 Suppose that process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timestamps 5, 10, and 15 respective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 resource will be preempted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rolled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wa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396200" y="0"/>
            <a:ext cx="1485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rcRect l="1893" t="22877" r="699" b="22676"/>
          <a:stretch/>
        </p:blipFill>
        <p:spPr>
          <a:xfrm>
            <a:off x="847800" y="1606680"/>
            <a:ext cx="7467480" cy="3130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Local Wait-For Grap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396200" y="0"/>
            <a:ext cx="1485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Wait-For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3166" t="18918" r="541" b="14945"/>
          <a:stretch/>
        </p:blipFill>
        <p:spPr>
          <a:xfrm>
            <a:off x="1241280" y="1749600"/>
            <a:ext cx="6674040" cy="3438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7396200" y="0"/>
            <a:ext cx="1485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lock Detection – Centraliz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site keeps a local wait-for graph.  The nodes of the graph correspond to all the processes that are currently either holding or requesting any of the resources local to that si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lobal wait-for graph is maintained in a single coordination process; this graph is the union of all local wait-for graph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hree different options (points in time) when the wait-for graph may be construct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ever a new edge is inserted or removed in one of the local wait-for grap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ally, when a number of changes have occurred in a wait-for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ever the coordinator needs to invoke the cycle-detection algorithm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necessary rollbacks may occur as a result of false cyc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701120" y="0"/>
            <a:ext cx="1485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ion Algorithm Based on Option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 unique identifiers (timestamps) to requests form different site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process Pi, at site A, requests a resource from process Pj, at site B, a request message with timestamp TS is sen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dge P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j with the label TS is inserted in the local wait-for of A. The edge is inserted in the local wait-for graph of B only if B has received the request message and cannot immediately grant the requested resour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75560" y="0"/>
            <a:ext cx="14860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roller sends an initiating message to each site in the syste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receiving this message, a site sends its local wait-for graph to the coordinato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ontroller has received a reply from each site, it constructs a graph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tructed graph contains a vertex for every process in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aph has an ed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and only if (1) there is an ed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one of the wait-for graphs, or (2) an ed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some lab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ears in more than one wait-for grap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constructed graph contains a cyc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adl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396200" y="0"/>
            <a:ext cx="1485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and Global Wait-For Grap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rcRect l="981" t="30358" r="335" b="30805"/>
          <a:stretch/>
        </p:blipFill>
        <p:spPr>
          <a:xfrm>
            <a:off x="692280" y="1800360"/>
            <a:ext cx="7813440" cy="2306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7396200" y="0"/>
            <a:ext cx="1485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ve Time for Three Concurrent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1234" t="8229" r="2468" b="7818"/>
          <a:stretch/>
        </p:blipFill>
        <p:spPr>
          <a:xfrm>
            <a:off x="1447920" y="1371600"/>
            <a:ext cx="5943600" cy="3886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1521360" y="5427720"/>
            <a:ext cx="406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sinc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Distribut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ontrollers share equally the responsibility for detecting deadlo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site constructs a wait-for graph that represents a part of the total grap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add one additional no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each local wait-for grap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local wait-for graph contains a cycle that does not involve no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 the system is in a deadlock st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ycle involv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mplies the possibility of a deadlock.  To ascertain whether a deadlock does exist, a distributed deadlock-detection algorithm must be invo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396200" y="0"/>
            <a:ext cx="1485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mented Local Wait-For Graph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856" t="28285" r="856" b="28048"/>
          <a:stretch/>
        </p:blipFill>
        <p:spPr>
          <a:xfrm>
            <a:off x="671400" y="1768320"/>
            <a:ext cx="7575840" cy="252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396200" y="0"/>
            <a:ext cx="148572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mented Local Wait-For Graph in Site S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rcRect l="2674" t="7866" r="2287" b="4813"/>
          <a:stretch/>
        </p:blipFill>
        <p:spPr>
          <a:xfrm>
            <a:off x="1387440" y="1241280"/>
            <a:ext cx="5965920" cy="4111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688160" y="0"/>
            <a:ext cx="14860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ion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where a new copy of the coordinator should be restar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a unique priority number is associated with each active process in the system, and assume that the priority number of pro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a one-to-one correspondence between processes and s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ordinator is always the process with the largest priority number.  When a coordinator fails, the algorithm must elect that active process with the largest priority numb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gorithms, the bully algorithm and a ring algorithm, can be used to elect a new coordinator in case of failu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ly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ble to systems where every process can send a message to every other process in the syste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pro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nds a request that is not answered by the coordinator within a time interval T, assume that the coordinator has failed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ies to elect itself as the new coordinator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nds an election message to every process with a higher priority numbe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waits for any of these processes to answer within 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ly Algorithm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 response with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ssume that all processes with numbers greater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failed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s itself the new coordinator. It then send a message to all processes with lower prioritie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nswer is receiv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gins time interva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´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iting to receive a message that a process with a higher priority number has been elect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 message is sent with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´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sume the process with a higher number has failed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hould restart the algorith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ly Algorithm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not the coordinator, then, at any time during executi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ceive one of the following two messages from pro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new coordinator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 &gt;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turn, records thi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rted an election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 &lt;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nds a respons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begins its own election algorithm, provided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not already initiated such an elec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a failed process recovers, it immediately begins execution of the same algorith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are no active processes with higher numbers, the recovered process forces all processes with lower number to let it become the coordinator process, even if there is a currently active coordinator with a lower numb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lly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,p2,p3,p4 – p1 and p4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2 discover failu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3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1 reco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3 re-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4 recov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4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ble to systems organized as a ring (logically or physically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s that the links are unidirectional, and that processes send their messages to their right neighbor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rocess maintains an active list, consisting of all the priority numbers of all active processes in the system when the algorithm end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process Pi detects a coordinator failure, Pi creates a new active list that is initially empty.  It then sends a message elect(i) to its right neighbor, and adds the number i to its active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Algorithm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eives a message elect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from the process on the left, it must respond in one of three way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is is the fir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ssage it has seen or se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ates a new active list with the numbe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t then sends the messa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lowed by the messa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add j and forward elect(j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= 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ves the messa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active list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ains all the active processes in the system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now determine the new coordinator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9160" y="1066320"/>
            <a:ext cx="77691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ociate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imesta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each system event.  Require that for every pair of events A and B, if 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, then the timestamp of A is less than the timestamp of B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each 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ogical c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L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ssociated.  The logical clock can be implemented as a simple counter that is incremented between any two successive events executed within a proces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cess advances its logical clock when it receives a message whose timestamp is greater than the current value of its logical clock. (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timestamps of two events A and B are the same, then the events are concurrent.  We may use the process identity numbers to break ties and to create a total orderin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hing Agre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applications where a set of processes wish to agree on a common “value”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 agreement may not take place due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y communication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y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Processes may send garbled or incorrect messages to other processes.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 subset of the processes may collaborate with each other in an attempt to defeat the scheme.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lty Commun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s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as sent a message to pro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si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to proceed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eds to know 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received the 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 failures using a time-out sche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nds out a message, it also specifies a time interval during which it is willing to wait for an acknowledgment message for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ves the message, it immediately sends an acknowledgment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the acknowledgment message within the specified time interval, it concludes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received its message.  If a time-out occur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eds to retransmit its message and wait for an acknowled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unti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ther receives an acknowledgment, or is notified by the system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lty Communication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so needs to know th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received its acknowledgment message, in order to decide on how to proceed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presence of failure, it is not possible to accomplish this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possible in a distributed environment for process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gree completely on their respective st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lty Processes (Byzantine Generals Probl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medium is reliable, but processes can fail in unpredictable way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 system of n processes, of which no more than m are faulty.  Suppose that each process Pi has some private value of V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ise an algorithm that allows each nonfaulty Pi to construct a vector Xi = (Ai,1, Ai,2, …, Ai,n) such that: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j is a nonfaulty process, then Aij = V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i and Pj are both nonfaulty processes, then Xi = X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s share the following proper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rrect algorithm can be devised only if 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 x m +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st-case delay for reaching agreement is proportionate to m + 1 message-passing del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lty Processe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02936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lgorithm for the case wh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 requires two rounds of information exchang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sends its private value to the other 3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sends the information it has obtained in the first round to all other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faulty process refuses to send messages, a nonfaulty process can choose an arbitrary value and pretend that that value was sent by that proces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two rounds are completed, a nonfaulty pro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n construct its vect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,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,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s follow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t least two of the three values reported for proc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ree, then the majority value is used to set the value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Otherwise, a default valu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Mutual Exclusion (DM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consists of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es; each proc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s at a different process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cess has a critical section that requires mutual exclu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ecuting in its critical section, then no other proc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ecuting in its critical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present two algorithms to ensure the mutual exclusion execution of processes in their critical sec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E:  Centraliz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of the processes in the system i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hos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ordin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entry to the critical se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cess that wants to enter its critical section sends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ssage to the coordinat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ordinator decides which process can enter the critical section next, and it sends that process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p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cess receives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p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ssage from the coordinator, it enters its critical se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xiting its critical section, the process sends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ssage to the coordinator and proceeds with its execu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cheme requires three messages per critical-section entr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qu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E:  Fully Distribut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nts to enter its critical section, it generates a new timestamp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sends the messag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ll other processes in the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s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ssage, it ma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p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ly or it ma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f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nding a reply b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s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p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from all other processes in the system, it can enter its critical se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xiting its critical section, the process send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p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s to all its deferred reques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e5a2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E:  Fully Distributed Approach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cision whether process Pk replies immediately to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m,TS) message or defers its reply is based on three facto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k is in its critical section, then it defers its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p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k does not want to enter its critical section, then it sends a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p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mediately to P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k wants to enter its critical section but has not yet entered it, then it compares its own request timestamp with the timestamp 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f its own request timestamp is greater than TS, then it sends a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ply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immediately to Pm (Pm asked first)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Otherwise,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ply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eferred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13:47:40Z</dcterms:created>
  <dc:creator>Marilyn Turnamian</dc:creator>
  <dc:description/>
  <dc:language>en-US</dc:language>
  <cp:lastModifiedBy>Zvi Yehudai</cp:lastModifiedBy>
  <cp:lastPrinted>1999-06-28T19:27:31Z</cp:lastPrinted>
  <dcterms:modified xsi:type="dcterms:W3CDTF">2005-05-22T14:54:03Z</dcterms:modified>
  <cp:revision>71</cp:revision>
  <dc:subject/>
  <dc:title>Module 1:   Introduction</dc:title>
</cp:coreProperties>
</file>