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6"/>
          </p:nvPr>
        </p:nvSpPr>
        <p:spPr>
          <a:xfrm>
            <a:off x="3965040" y="0"/>
            <a:ext cx="3030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7"/>
          </p:nvPr>
        </p:nvSpPr>
        <p:spPr>
          <a:xfrm>
            <a:off x="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8"/>
          </p:nvPr>
        </p:nvSpPr>
        <p:spPr>
          <a:xfrm>
            <a:off x="3965040" y="8817120"/>
            <a:ext cx="3030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B9CA5-CC48-4663-B804-E7E0DC836EC8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ering Chapter 1-3 of Silbershat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OS 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they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ow they designed and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7EC-C212-4D78-B52F-33408638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C5D-23CF-414B-BEA7-18ECC127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C17-368B-4F68-A761-E48AEE87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334-2C53-49FD-90DE-AB042751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94A-8880-428F-93F3-35CF4BA6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B72-B194-4874-A4AF-C49F5414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092-63AA-4BB6-88BE-D51332A0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718-2CFD-48D4-84B8-3CBEF989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4C3-9DB6-4D0A-978D-EDC77596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940-7753-47DE-912D-FFDB0063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557-645A-4521-9FDF-AEBEF332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4F2-6833-4160-908A-782555A6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316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U-Haifa/CS - OS Spring/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309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Lecture 1 - </a:t>
            </a:r>
            <a:fld id="{B3268D90-5D55-469D-B2D8-CA73F8DFE950}" type="slidenum">
              <a:rPr b="0" lang="he-IL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3640" cy="912960"/>
            <a:chOff x="0" y="0"/>
            <a:chExt cx="9143640" cy="912960"/>
          </a:xfrm>
        </p:grpSpPr>
        <p:sp>
          <p:nvSpPr>
            <p:cNvPr id="8" name=""/>
            <p:cNvSpPr/>
            <p:nvPr/>
          </p:nvSpPr>
          <p:spPr>
            <a:xfrm>
              <a:off x="969840" y="349200"/>
              <a:ext cx="3601800" cy="442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0" y="24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140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69840" y="8892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12120" y="88920"/>
              <a:ext cx="2159280" cy="442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1247" y="24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967" y="24"/>
                  </a:lnTo>
                  <a:lnTo>
                    <a:pt x="1247" y="24"/>
                  </a:lnTo>
                  <a:lnTo>
                    <a:pt x="1247" y="0"/>
                  </a:lnTo>
                  <a:lnTo>
                    <a:pt x="1107" y="0"/>
                  </a:lnTo>
                  <a:lnTo>
                    <a:pt x="124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86840" y="1076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119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1"/>
                  </a:lnTo>
                  <a:lnTo>
                    <a:pt x="140" y="119"/>
                  </a:lnTo>
                  <a:lnTo>
                    <a:pt x="280" y="119"/>
                  </a:lnTo>
                  <a:lnTo>
                    <a:pt x="280" y="95"/>
                  </a:lnTo>
                  <a:lnTo>
                    <a:pt x="140" y="119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927440" y="171000"/>
              <a:ext cx="1202040" cy="442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28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927440" y="1969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72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20"/>
                  </a:lnTo>
                  <a:lnTo>
                    <a:pt x="0" y="95"/>
                  </a:lnTo>
                  <a:lnTo>
                    <a:pt x="0" y="120"/>
                  </a:lnTo>
                  <a:lnTo>
                    <a:pt x="140" y="120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170080" y="260280"/>
              <a:ext cx="2171520" cy="442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974" y="23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1254" y="23"/>
                  </a:lnTo>
                  <a:lnTo>
                    <a:pt x="1114" y="48"/>
                  </a:lnTo>
                  <a:lnTo>
                    <a:pt x="1254" y="48"/>
                  </a:lnTo>
                  <a:lnTo>
                    <a:pt x="1254" y="23"/>
                  </a:lnTo>
                  <a:lnTo>
                    <a:pt x="974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856680" y="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0"/>
              <a:ext cx="4098960" cy="442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287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19800"/>
              <a:ext cx="497160" cy="45576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456"/>
                  </a:moveTo>
                  <a:lnTo>
                    <a:pt x="287" y="480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504"/>
                  </a:lnTo>
                  <a:lnTo>
                    <a:pt x="0" y="480"/>
                  </a:lnTo>
                  <a:lnTo>
                    <a:pt x="0" y="504"/>
                  </a:lnTo>
                  <a:lnTo>
                    <a:pt x="140" y="504"/>
                  </a:lnTo>
                  <a:lnTo>
                    <a:pt x="140" y="456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2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71640" y="349200"/>
              <a:ext cx="3614040" cy="442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1807" y="24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2087" y="24"/>
                  </a:lnTo>
                  <a:lnTo>
                    <a:pt x="1953" y="49"/>
                  </a:lnTo>
                  <a:lnTo>
                    <a:pt x="2087" y="49"/>
                  </a:lnTo>
                  <a:lnTo>
                    <a:pt x="2087" y="24"/>
                  </a:lnTo>
                  <a:lnTo>
                    <a:pt x="180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701120" y="8892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6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6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6" y="0"/>
                  </a:lnTo>
                  <a:lnTo>
                    <a:pt x="146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71880" y="88920"/>
              <a:ext cx="2181600" cy="442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280" y="24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771880" y="1076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71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19"/>
                  </a:lnTo>
                  <a:lnTo>
                    <a:pt x="0" y="95"/>
                  </a:lnTo>
                  <a:lnTo>
                    <a:pt x="0" y="119"/>
                  </a:lnTo>
                  <a:lnTo>
                    <a:pt x="140" y="119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014160" y="171000"/>
              <a:ext cx="1212120" cy="442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70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420" y="24"/>
                  </a:lnTo>
                  <a:lnTo>
                    <a:pt x="700" y="24"/>
                  </a:lnTo>
                  <a:lnTo>
                    <a:pt x="700" y="0"/>
                  </a:lnTo>
                  <a:lnTo>
                    <a:pt x="560" y="0"/>
                  </a:lnTo>
                  <a:lnTo>
                    <a:pt x="7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741720" y="1969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120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2"/>
                  </a:lnTo>
                  <a:lnTo>
                    <a:pt x="140" y="120"/>
                  </a:lnTo>
                  <a:lnTo>
                    <a:pt x="280" y="120"/>
                  </a:lnTo>
                  <a:lnTo>
                    <a:pt x="280" y="95"/>
                  </a:lnTo>
                  <a:lnTo>
                    <a:pt x="140" y="12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14280" y="260280"/>
              <a:ext cx="2170080" cy="442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0" y="23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14280" y="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056920" y="0"/>
              <a:ext cx="4086720" cy="442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36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080" y="24"/>
                  </a:lnTo>
                  <a:lnTo>
                    <a:pt x="2360" y="24"/>
                  </a:lnTo>
                  <a:lnTo>
                    <a:pt x="2360" y="0"/>
                  </a:lnTo>
                  <a:lnTo>
                    <a:pt x="2220" y="0"/>
                  </a:lnTo>
                  <a:lnTo>
                    <a:pt x="236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658720" y="19800"/>
              <a:ext cx="484920" cy="45576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504"/>
                  </a:moveTo>
                  <a:lnTo>
                    <a:pt x="280" y="480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456"/>
                  </a:lnTo>
                  <a:lnTo>
                    <a:pt x="140" y="504"/>
                  </a:lnTo>
                  <a:lnTo>
                    <a:pt x="280" y="504"/>
                  </a:lnTo>
                  <a:lnTo>
                    <a:pt x="280" y="480"/>
                  </a:lnTo>
                  <a:lnTo>
                    <a:pt x="140" y="50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71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69840" y="520560"/>
              <a:ext cx="3601800" cy="442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280" y="23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0" y="23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8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69840" y="539280"/>
              <a:ext cx="484920" cy="2862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0" y="265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3"/>
                  </a:lnTo>
                  <a:lnTo>
                    <a:pt x="0" y="288"/>
                  </a:lnTo>
                  <a:lnTo>
                    <a:pt x="0" y="313"/>
                  </a:lnTo>
                  <a:lnTo>
                    <a:pt x="140" y="313"/>
                  </a:lnTo>
                  <a:lnTo>
                    <a:pt x="140" y="265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12120" y="780840"/>
              <a:ext cx="2159280" cy="442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967" y="23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1247" y="23"/>
                  </a:lnTo>
                  <a:lnTo>
                    <a:pt x="1107" y="48"/>
                  </a:lnTo>
                  <a:lnTo>
                    <a:pt x="1247" y="48"/>
                  </a:lnTo>
                  <a:lnTo>
                    <a:pt x="1247" y="23"/>
                  </a:lnTo>
                  <a:lnTo>
                    <a:pt x="96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886840" y="6973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48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927440" y="697320"/>
              <a:ext cx="1202040" cy="442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927440" y="6098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0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0080" y="609840"/>
              <a:ext cx="2171520" cy="442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1254" y="24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974" y="24"/>
                  </a:lnTo>
                  <a:lnTo>
                    <a:pt x="1254" y="24"/>
                  </a:lnTo>
                  <a:lnTo>
                    <a:pt x="1254" y="0"/>
                  </a:lnTo>
                  <a:lnTo>
                    <a:pt x="1114" y="0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856680" y="628200"/>
              <a:ext cx="484920" cy="28476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312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264"/>
                  </a:lnTo>
                  <a:lnTo>
                    <a:pt x="140" y="312"/>
                  </a:lnTo>
                  <a:lnTo>
                    <a:pt x="280" y="312"/>
                  </a:lnTo>
                  <a:lnTo>
                    <a:pt x="280" y="288"/>
                  </a:lnTo>
                  <a:lnTo>
                    <a:pt x="140" y="31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868680"/>
              <a:ext cx="4098960" cy="442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0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287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38480"/>
              <a:ext cx="497160" cy="45576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0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7" y="504"/>
                  </a:lnTo>
                  <a:lnTo>
                    <a:pt x="287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42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571640" y="520560"/>
              <a:ext cx="3614040" cy="442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2087" y="23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1807" y="23"/>
                  </a:lnTo>
                  <a:lnTo>
                    <a:pt x="2087" y="23"/>
                  </a:lnTo>
                  <a:lnTo>
                    <a:pt x="2087" y="0"/>
                  </a:lnTo>
                  <a:lnTo>
                    <a:pt x="1953" y="0"/>
                  </a:lnTo>
                  <a:lnTo>
                    <a:pt x="208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701120" y="539280"/>
              <a:ext cx="484920" cy="2862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6" y="313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6" y="265"/>
                  </a:lnTo>
                  <a:lnTo>
                    <a:pt x="146" y="313"/>
                  </a:lnTo>
                  <a:lnTo>
                    <a:pt x="280" y="313"/>
                  </a:lnTo>
                  <a:lnTo>
                    <a:pt x="280" y="288"/>
                  </a:lnTo>
                  <a:lnTo>
                    <a:pt x="146" y="31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771880" y="780840"/>
              <a:ext cx="2181600" cy="442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0" y="23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71880" y="6973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0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4160" y="697320"/>
              <a:ext cx="1212120" cy="442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42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700" y="24"/>
                  </a:lnTo>
                  <a:lnTo>
                    <a:pt x="560" y="48"/>
                  </a:lnTo>
                  <a:lnTo>
                    <a:pt x="700" y="48"/>
                  </a:lnTo>
                  <a:lnTo>
                    <a:pt x="700" y="24"/>
                  </a:lnTo>
                  <a:lnTo>
                    <a:pt x="42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741720" y="6098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48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14280" y="609840"/>
              <a:ext cx="2170080" cy="442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280" y="24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14280" y="628200"/>
              <a:ext cx="484920" cy="28476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264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2"/>
                  </a:lnTo>
                  <a:lnTo>
                    <a:pt x="0" y="288"/>
                  </a:lnTo>
                  <a:lnTo>
                    <a:pt x="0" y="312"/>
                  </a:lnTo>
                  <a:lnTo>
                    <a:pt x="140" y="312"/>
                  </a:lnTo>
                  <a:lnTo>
                    <a:pt x="140" y="26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56920" y="868680"/>
              <a:ext cx="4086720" cy="442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08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360" y="24"/>
                  </a:lnTo>
                  <a:lnTo>
                    <a:pt x="2220" y="48"/>
                  </a:lnTo>
                  <a:lnTo>
                    <a:pt x="2360" y="48"/>
                  </a:lnTo>
                  <a:lnTo>
                    <a:pt x="2360" y="24"/>
                  </a:lnTo>
                  <a:lnTo>
                    <a:pt x="20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58720" y="438480"/>
              <a:ext cx="484920" cy="45576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48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0" y="504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1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3640" cy="6847200"/>
            <a:chOff x="0" y="0"/>
            <a:chExt cx="9143640" cy="6847200"/>
          </a:xfrm>
        </p:grpSpPr>
        <p:sp>
          <p:nvSpPr>
            <p:cNvPr id="89" name=""/>
            <p:cNvSpPr/>
            <p:nvPr/>
          </p:nvSpPr>
          <p:spPr>
            <a:xfrm>
              <a:off x="969840" y="2620080"/>
              <a:ext cx="3601800" cy="3340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0" y="24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140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69840" y="66852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2120" y="668520"/>
              <a:ext cx="2159280" cy="3340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1247" y="24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967" y="24"/>
                  </a:lnTo>
                  <a:lnTo>
                    <a:pt x="1247" y="24"/>
                  </a:lnTo>
                  <a:lnTo>
                    <a:pt x="1247" y="0"/>
                  </a:lnTo>
                  <a:lnTo>
                    <a:pt x="1107" y="0"/>
                  </a:lnTo>
                  <a:lnTo>
                    <a:pt x="124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86840" y="80856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119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1"/>
                  </a:lnTo>
                  <a:lnTo>
                    <a:pt x="140" y="119"/>
                  </a:lnTo>
                  <a:lnTo>
                    <a:pt x="280" y="119"/>
                  </a:lnTo>
                  <a:lnTo>
                    <a:pt x="280" y="95"/>
                  </a:lnTo>
                  <a:lnTo>
                    <a:pt x="140" y="119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7440" y="1283040"/>
              <a:ext cx="1202040" cy="3340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28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27440" y="147708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72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20"/>
                  </a:lnTo>
                  <a:lnTo>
                    <a:pt x="0" y="95"/>
                  </a:lnTo>
                  <a:lnTo>
                    <a:pt x="0" y="120"/>
                  </a:lnTo>
                  <a:lnTo>
                    <a:pt x="140" y="120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70080" y="1951560"/>
              <a:ext cx="2171520" cy="3340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974" y="23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1254" y="23"/>
                  </a:lnTo>
                  <a:lnTo>
                    <a:pt x="1114" y="48"/>
                  </a:lnTo>
                  <a:lnTo>
                    <a:pt x="1254" y="48"/>
                  </a:lnTo>
                  <a:lnTo>
                    <a:pt x="1254" y="23"/>
                  </a:lnTo>
                  <a:lnTo>
                    <a:pt x="974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56680" y="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4098960" cy="3340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287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50840"/>
              <a:ext cx="497160" cy="341820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456"/>
                  </a:moveTo>
                  <a:lnTo>
                    <a:pt x="287" y="480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504"/>
                  </a:lnTo>
                  <a:lnTo>
                    <a:pt x="0" y="480"/>
                  </a:lnTo>
                  <a:lnTo>
                    <a:pt x="0" y="504"/>
                  </a:lnTo>
                  <a:lnTo>
                    <a:pt x="140" y="504"/>
                  </a:lnTo>
                  <a:lnTo>
                    <a:pt x="140" y="456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2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1640" y="2620080"/>
              <a:ext cx="3614040" cy="3340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1807" y="24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2087" y="24"/>
                  </a:lnTo>
                  <a:lnTo>
                    <a:pt x="1953" y="49"/>
                  </a:lnTo>
                  <a:lnTo>
                    <a:pt x="2087" y="49"/>
                  </a:lnTo>
                  <a:lnTo>
                    <a:pt x="2087" y="24"/>
                  </a:lnTo>
                  <a:lnTo>
                    <a:pt x="180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01120" y="66852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6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6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6" y="0"/>
                  </a:lnTo>
                  <a:lnTo>
                    <a:pt x="146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71880" y="668520"/>
              <a:ext cx="2181600" cy="3340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280" y="24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1880" y="80856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71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19"/>
                  </a:lnTo>
                  <a:lnTo>
                    <a:pt x="0" y="95"/>
                  </a:lnTo>
                  <a:lnTo>
                    <a:pt x="0" y="119"/>
                  </a:lnTo>
                  <a:lnTo>
                    <a:pt x="140" y="119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4160" y="1283040"/>
              <a:ext cx="1212120" cy="3340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70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420" y="24"/>
                  </a:lnTo>
                  <a:lnTo>
                    <a:pt x="700" y="24"/>
                  </a:lnTo>
                  <a:lnTo>
                    <a:pt x="700" y="0"/>
                  </a:lnTo>
                  <a:lnTo>
                    <a:pt x="560" y="0"/>
                  </a:lnTo>
                  <a:lnTo>
                    <a:pt x="7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1720" y="147708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120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2"/>
                  </a:lnTo>
                  <a:lnTo>
                    <a:pt x="140" y="120"/>
                  </a:lnTo>
                  <a:lnTo>
                    <a:pt x="280" y="120"/>
                  </a:lnTo>
                  <a:lnTo>
                    <a:pt x="280" y="95"/>
                  </a:lnTo>
                  <a:lnTo>
                    <a:pt x="140" y="12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14280" y="1951560"/>
              <a:ext cx="2170080" cy="3340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0" y="23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14280" y="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56920" y="0"/>
              <a:ext cx="4086720" cy="3340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36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080" y="24"/>
                  </a:lnTo>
                  <a:lnTo>
                    <a:pt x="2360" y="24"/>
                  </a:lnTo>
                  <a:lnTo>
                    <a:pt x="2360" y="0"/>
                  </a:lnTo>
                  <a:lnTo>
                    <a:pt x="2220" y="0"/>
                  </a:lnTo>
                  <a:lnTo>
                    <a:pt x="236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58720" y="150840"/>
              <a:ext cx="484920" cy="341820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504"/>
                  </a:moveTo>
                  <a:lnTo>
                    <a:pt x="280" y="480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456"/>
                  </a:lnTo>
                  <a:lnTo>
                    <a:pt x="140" y="504"/>
                  </a:lnTo>
                  <a:lnTo>
                    <a:pt x="280" y="504"/>
                  </a:lnTo>
                  <a:lnTo>
                    <a:pt x="280" y="480"/>
                  </a:lnTo>
                  <a:lnTo>
                    <a:pt x="140" y="50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1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9840" y="3903480"/>
              <a:ext cx="3601800" cy="3340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280" y="23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0" y="23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8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69840" y="4043520"/>
              <a:ext cx="484920" cy="21456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0" y="265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3"/>
                  </a:lnTo>
                  <a:lnTo>
                    <a:pt x="0" y="288"/>
                  </a:lnTo>
                  <a:lnTo>
                    <a:pt x="0" y="313"/>
                  </a:lnTo>
                  <a:lnTo>
                    <a:pt x="140" y="313"/>
                  </a:lnTo>
                  <a:lnTo>
                    <a:pt x="140" y="265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2120" y="5855400"/>
              <a:ext cx="2159280" cy="3340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967" y="23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1247" y="23"/>
                  </a:lnTo>
                  <a:lnTo>
                    <a:pt x="1107" y="48"/>
                  </a:lnTo>
                  <a:lnTo>
                    <a:pt x="1247" y="48"/>
                  </a:lnTo>
                  <a:lnTo>
                    <a:pt x="1247" y="23"/>
                  </a:lnTo>
                  <a:lnTo>
                    <a:pt x="96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86840" y="522972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48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27440" y="5229720"/>
              <a:ext cx="1202040" cy="3340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27440" y="457200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0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0080" y="4572000"/>
              <a:ext cx="2171520" cy="3340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1254" y="24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974" y="24"/>
                  </a:lnTo>
                  <a:lnTo>
                    <a:pt x="1254" y="24"/>
                  </a:lnTo>
                  <a:lnTo>
                    <a:pt x="1254" y="0"/>
                  </a:lnTo>
                  <a:lnTo>
                    <a:pt x="1114" y="0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6680" y="4712400"/>
              <a:ext cx="484920" cy="213480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312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264"/>
                  </a:lnTo>
                  <a:lnTo>
                    <a:pt x="140" y="312"/>
                  </a:lnTo>
                  <a:lnTo>
                    <a:pt x="280" y="312"/>
                  </a:lnTo>
                  <a:lnTo>
                    <a:pt x="280" y="288"/>
                  </a:lnTo>
                  <a:lnTo>
                    <a:pt x="140" y="31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513120"/>
              <a:ext cx="4098960" cy="3340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0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287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3288960"/>
              <a:ext cx="497160" cy="341820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0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7" y="504"/>
                  </a:lnTo>
                  <a:lnTo>
                    <a:pt x="287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1640" y="3903480"/>
              <a:ext cx="3614040" cy="3340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2087" y="23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1807" y="23"/>
                  </a:lnTo>
                  <a:lnTo>
                    <a:pt x="2087" y="23"/>
                  </a:lnTo>
                  <a:lnTo>
                    <a:pt x="2087" y="0"/>
                  </a:lnTo>
                  <a:lnTo>
                    <a:pt x="1953" y="0"/>
                  </a:lnTo>
                  <a:lnTo>
                    <a:pt x="208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01120" y="4043520"/>
              <a:ext cx="484920" cy="21456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6" y="313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6" y="265"/>
                  </a:lnTo>
                  <a:lnTo>
                    <a:pt x="146" y="313"/>
                  </a:lnTo>
                  <a:lnTo>
                    <a:pt x="280" y="313"/>
                  </a:lnTo>
                  <a:lnTo>
                    <a:pt x="280" y="288"/>
                  </a:lnTo>
                  <a:lnTo>
                    <a:pt x="146" y="31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71880" y="5855400"/>
              <a:ext cx="2181600" cy="3340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0" y="23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71880" y="522972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0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4160" y="5229720"/>
              <a:ext cx="1212120" cy="3340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42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700" y="24"/>
                  </a:lnTo>
                  <a:lnTo>
                    <a:pt x="560" y="48"/>
                  </a:lnTo>
                  <a:lnTo>
                    <a:pt x="700" y="48"/>
                  </a:lnTo>
                  <a:lnTo>
                    <a:pt x="700" y="24"/>
                  </a:lnTo>
                  <a:lnTo>
                    <a:pt x="42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41720" y="457200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48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14280" y="4572000"/>
              <a:ext cx="2170080" cy="3340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280" y="24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14280" y="4712400"/>
              <a:ext cx="484920" cy="213480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264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2"/>
                  </a:lnTo>
                  <a:lnTo>
                    <a:pt x="0" y="288"/>
                  </a:lnTo>
                  <a:lnTo>
                    <a:pt x="0" y="312"/>
                  </a:lnTo>
                  <a:lnTo>
                    <a:pt x="140" y="312"/>
                  </a:lnTo>
                  <a:lnTo>
                    <a:pt x="140" y="26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56920" y="6513120"/>
              <a:ext cx="4086720" cy="3340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08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360" y="24"/>
                  </a:lnTo>
                  <a:lnTo>
                    <a:pt x="2220" y="48"/>
                  </a:lnTo>
                  <a:lnTo>
                    <a:pt x="2360" y="48"/>
                  </a:lnTo>
                  <a:lnTo>
                    <a:pt x="2360" y="24"/>
                  </a:lnTo>
                  <a:lnTo>
                    <a:pt x="20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58720" y="3288960"/>
              <a:ext cx="484920" cy="341820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48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0" y="504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1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U-Haifa – CS / Spring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and O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amp;G Chapter 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78600" y="25225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vi Yehu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73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ing to OS: Comman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essential component in 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modern systems it is not part of the “kernel” but an application - the primary application through which the user communicates with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interpreter accepts comma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control statements interactive (e.g., MSDOS what you type after the system prompt) or batch (MSDOS command scripts). IBM OS JCL and Unix Shells are classical C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graphical interface set of actions (e.g.,Windows mouse movements and clicks that select and act on ic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languages are powerful languages by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low direct invocation of system utilities for process management, file-system manipulation, protection, networkin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27C-68EF-40E2-B6EC-4335CBDFD9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terru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als an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be caused by a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xternal c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by a program step -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hardware interru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oftware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ypes cause the computer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current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ogram counter, status register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a location dependent on the specific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oes only hardware state sa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oftware interrup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aps, system c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Hardware interrup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 of an I/O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uman initiated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s can b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sk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n-mask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OS’s ar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terrupt dr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183-87D9-47B9-9C08-94AAAF99A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(Con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s transfers control to the interrupt service routine generally, through the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interrupt v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contains the addresses of all the service rout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architecture must save the address of the interrupted i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interrupts are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isabl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le another interrupt is being processed to prevent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st interru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r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oftware-generated interrupt caused either by an error or a user requ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erating system is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interru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CB2-1D75-41E5-86CD-A59F8474B9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Time Line For a Single Process Doing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585" t="21762" r="644" b="21662"/>
          <a:stretch/>
        </p:blipFill>
        <p:spPr>
          <a:xfrm>
            <a:off x="915840" y="1865160"/>
            <a:ext cx="7096320" cy="29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DB1-A82C-4B09-990B-05D096108A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I/O starts, control returns to user program only upon I/O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ruction idles the CPU until the next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op (contention for memory acc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 one I/O request is outstanding at a time, no simultaneous I/O proc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I/O starts, control returns to user program without waiting for I/O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ystem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equest to the operating system to allow user to wait for I/O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evice-status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s entry for each I/O device indicating its type, address, a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 indexes into I/O device table to determine device status and to modify table entry to include interru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672-FC72-4195-B095-893D9AF6EA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/O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54240" y="179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64360" y="1818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520" t="22592" r="567" b="22526"/>
          <a:stretch/>
        </p:blipFill>
        <p:spPr>
          <a:xfrm>
            <a:off x="754200" y="2284560"/>
            <a:ext cx="7746840" cy="34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468-E2A2-4E92-8792-638804EF0E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M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ect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ory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e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access is based on executing address/read/write cycles on the memory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device connected to the memory bus able to do that is called a “bus master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can be a bus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ripheral - through its adapter or through a general purpose device - is able to do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apter, or the DMA controller, is given a start address and a count and whenever a datum is there a DMA cycle is initiated until either the peripheral indicates that it stops or the count is exha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machines allow for chains of DM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 is used for fas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 results in 1 interrupt/operation rather than 1 interrupt/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8A2-496B-4C6B-B812-A9725717AE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torage is a complex  hierarc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storage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lk of memory is built o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ynamic Random Access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M is volatile and not very fast (vs. CPU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 is a faster memory that is located “between” the processing elements and main-memory – usually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tatic 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l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most common nonvolatile memory technologies. ROM is used f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flash is used also as disk repla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hierarchy is a central concept in system structure and in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B76-D17E-49FD-8B52-B60D3BA077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 – Th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rge storage media that the CPU can access direc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storage – extension of main memory that provides larg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nvolat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rage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c disks – rigid metal or glass platters covered with magnetic recording 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surface is logically divided into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ra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are subdivided into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e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k control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rmines the logical interaction between the device and the compu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4AC-E436-4750-8106-C10EC34121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-Head Disk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0392" t="572" r="10118" b="1429"/>
          <a:stretch/>
        </p:blipFill>
        <p:spPr>
          <a:xfrm>
            <a:off x="2227320" y="1238400"/>
            <a:ext cx="4226040" cy="49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1AE-1C22-45BD-A31A-BDDCB98617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n OS ? Why using it ? Some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Management an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7FA-1378-43DC-9DE1-7E4270642F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systems organized in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pying information into faster storage system; main memory can be viewed as a la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secondary sto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500-5E03-4354-9781-FDFC79B23A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-Devic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2752" t="1303" r="2592" b="568"/>
          <a:stretch/>
        </p:blipFill>
        <p:spPr>
          <a:xfrm>
            <a:off x="1714680" y="1441440"/>
            <a:ext cx="562608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E60-FF09-4345-B77B-C2A5635BB9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system resources requires an insurance that an incorrect program cannot cause other programs to execute in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Mod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557-B45F-4190-B926-2299068715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ultiprogramm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ulti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support for 2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oni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for critical system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ase &amp; lim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classical rang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protection – all I/O ar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vile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unive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drawback –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performed through system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protection –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3ED-67B1-407F-9CDF-C1981650DD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system resources requires operating system to ensure that an incorrect program cannot cause other programs to execute incorrec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hardware support to differentiate between at least two modes of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User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xecution done on behalf of a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Monitor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lso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upervisor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ystem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kernel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execution done on behalf of operating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418-6762-4668-8E3F-1340BE1206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Mode Operation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bit added to computer hardware to indicate the current mode:  monitor (0) or user 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interrupt or fault occurs hardware switches to monitor mode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ileged instru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issued only in monitor mod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90680" y="28224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19680" y="28224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6" idx="0"/>
            <a:endCxn id="235" idx="0"/>
          </p:cNvCxnSpPr>
          <p:nvPr/>
        </p:nvCxnSpPr>
        <p:spPr>
          <a:xfrm rot="5400000">
            <a:off x="3637080" y="1107720"/>
            <a:ext cx="252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5" idx="4"/>
            <a:endCxn id="236" idx="4"/>
          </p:cNvCxnSpPr>
          <p:nvPr/>
        </p:nvCxnSpPr>
        <p:spPr>
          <a:xfrm flipH="1" rot="16200000">
            <a:off x="3636720" y="225144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2916360" y="22122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/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66320" y="41047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ser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059-B81E-492E-B5E1-234E4FAA6C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/O instructions ar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vileg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ensure that a user program could never gain control of the computer i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oni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 (e.g., a user program that, as part of its execution, stores a new address in the interrupt vecto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378-ED9D-4A35-8C49-15204C5530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provide memory protection at least for the interrupt vector and the interrupt service rout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have memory protection, add two registers that determine the range of legal addresses a program may ac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ase regi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olds the smallest legal physical memory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imit regi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tains the size of the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outside the defined range is prot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FD9-4879-4E1E-8273-31540FAADC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i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nterrupts computer after specified period to ensure operating system maintains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is decremented every clock t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imer reaches the value 0, an interrupt oc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commonly used to implement time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also used to compute the curren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-timer is a privileged i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1D2-32AA-4293-AF83-AAAAEE9254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73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se And A limit Register Define the Logica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14476" t="1023" r="14644" b="1794"/>
          <a:stretch/>
        </p:blipFill>
        <p:spPr>
          <a:xfrm>
            <a:off x="2846520" y="1563840"/>
            <a:ext cx="3995640" cy="43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FE9-7754-4721-8DB1-9A27AB7589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user programs and make solving user problems eas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computer system convenient to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mputer hardware in an efficient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2CA-732C-4215-9473-2D47FE5AA2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4676400"/>
            <a:ext cx="855324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executing in monitor mode, the operating system has unrestricted access to both monitor and user’s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ad instructions for the base and limit registers are privileged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520" t="23013" r="475" b="23205"/>
          <a:stretch/>
        </p:blipFill>
        <p:spPr>
          <a:xfrm>
            <a:off x="647640" y="1057320"/>
            <a:ext cx="819144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720-357F-43BF-9748-383D3CBC44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 storage functions (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s (with other progr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 Handling (faults, error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logging (accounting, auditing, tracing, quota enforcement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and 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42B-A0C3-46FE-9477-6892CBF805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120" y="228240"/>
            <a:ext cx="734076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&amp;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05840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Functions (Compon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and 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lit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kernel/Subsystem (client/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9C1-B072-449E-B701-777D7AC353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70000"/>
            <a:ext cx="853416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gram in execution is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tch job is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ser program in a time-sharing system is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task - like taking job output spooled to disk and sending it to a printer is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is a “dynamic” entity - the process is the program execution not the program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can creat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has associated resources (memory, files, devices etc.) that are given to him either when it is created or a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in charg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creation and deletion (k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/re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, IPC ad deadlock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- lightweight - no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D89-3085-4EB8-9DA3-59E080A267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ecute a program the machine must have it loaded in memory and must have memory for it’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in very early systems we keep several program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ng and freeing main memory is done by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has to keep track of allocat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and data are located by the CPU through absolut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ng main memory is a hard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 removes much of the complexity of memory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356-CBC9-4885-9EC2-9B021A92A9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33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Stora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torage is not sufficient to hold all program and data for two rea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persistent (recall memory hierarchy from lecture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s are used used to hold what is “spilled” over from main memory (temporary) or what has to be persistent (files, data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are stored on disk and use disk as source and destination fo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y disks are used is of extreme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do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spa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organizations in structures with good access and resilient to power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1E7-6E0A-448E-8D4A-007286E439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devi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purposes of OS is to hide diverse hardware peculi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mportant that even the OS sees the devices in a uniform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ccomplished by having the I/O accessed through a common set of interfaces (APIs) even within the system (e.g, I/O subsystem in UNIX, I/O manager in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are manipulated by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drivers “look the same” to the rest of the OS and act differently on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device drivers in an OS and building them is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has to offer services to the driver builder (common)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pping (user space  /  system space  /  I/O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systems have “layered driv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bus, controller, de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FD4-F0AE-4894-9ECB-A84F6E9393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users convenience O/S present a uniform view of information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entity is a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ewed as an indiscriminate sequence of bytes (some systems add some structure - e.g., records on OS390 and AS/4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themselves organized in larger groups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irect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mask the exact nature of the underlying media (disk, ta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must prov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and deletion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and deletion of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access (read, wr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access coordination (by multiple us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pping to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utilities for backup, restore, export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fact - file naming (directory) used as a general purpose naming service in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9FB-F017-494B-8942-E71029E39B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and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system holds several programs in memory they must be protected against accidental or malicious mis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protection insure that a process can access on memory areas allocated to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devices allocated to one process should protected against use by other processes; in general  users don’t do I/O by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should be prevented to gain control of the CPU at the expense of others (time sharing, real-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files (data, programs etc.) is restricted to specific users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can extend to correct use of interface between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B66-70F3-4D97-9938-AD552E8250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very few exceptions today machines are netwo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s are interconnected through various communication networks (LAN, WAN) and various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should provide different levels of hiding the network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sers it should present simple paradigms l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fi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program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grammers it should provide to select a communication mechanism suited to the application developed (protocol, types of connect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dministrators it should provides means to monitor and actively manage networks (connections, router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0F7-80FA-4B8C-8B76-BC34B16C8B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ive to make computers faster and cheaper does make them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and architectural complexity have to be hidden from the computer user and computer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he user and the programmer have to see the machine at a higher level of abstraction from that of the machine 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resources have to be managed well, independent of the user qualifications and without imposing an additional burden on the application wr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748-327B-4107-949D-66CDFD3550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services provide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s - used for for most of the progra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rograms (system uti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languag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manipulation (linkers, loa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interpr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3C9-8B79-4F62-BBAF-60AC1D3A47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I/O instructions are privileged, how does the user program perform I/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method used by a process to request action by the ope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takes the form of a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r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specific location in the interrupt v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passes through the interrupt vector to a service routine in the OS, and the mode bit is set to monitor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nitor verifies that the parameters are correct and legal, executes the request, and returns control to the instruction following the system ca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4D4-558F-45DE-97C2-A13952EF450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ing I/O – System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17307" t="949" r="17307" b="576"/>
          <a:stretch/>
        </p:blipFill>
        <p:spPr>
          <a:xfrm>
            <a:off x="2451240" y="1452600"/>
            <a:ext cx="3838320" cy="46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EA8-2B02-4E6D-AE1C-C68DE38B2D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are the programming interface to the O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ly they where available in assembl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modern OS system calls are available directly from HL programming languages - either as programming constructs or as library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can be used either directly or within more abstract manipulation entities as part of the language I/O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are frequently invoked through software interrupts and parameters are passed through registers and/or through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are used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902-AB0D-494F-A5B7-EF781C0BC5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/execute another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 normal(end) or abnormal(ab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ll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event (or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/set process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r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ee is rooted in a “root proc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ime-Sharing systems a process tree is related to a controlling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D34-1139-4730-82FE-DB8C9034232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reate and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positioning (s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get/set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y manipulation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access coordination calls (lo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AB6-8594-4BB9-8279-C2AAD7ACCE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odern OS let user manipulate devices as “abstract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(to get a de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/write (for Input/Output from/to de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(to release de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tion (e.g., rewind a ta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use “special” file-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4E0-2EBB-4F03-A11B-9C643E3D840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/set time &amp;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/set max allocabl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system/subsystem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number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user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formation on disk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formation on CPU/memory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872-3B6D-46B1-97E8-18BB5A616E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involves at least two processes on the same or differen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ommunic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(not available on different mach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ng processes are identified by the pair (host name,process 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ress pair (or a mapping of them) is used in open-connection by the init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ceptor will indicate that it accepts connection by an accept call and then wait for a connection (a system c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is passed by read/write or send/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pular sequence is the one pioneered by the UC Berkeley version of UNIX (BSD) called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- mailboxes - get/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C69-B222-4527-AF57-C58CACE8254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629080" y="2158920"/>
            <a:ext cx="3886200" cy="2540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47440" y="15994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g Pa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68400" y="1599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4AE-E260-47A7-8B21-680BEB2D8CA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Hard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rovides basic computing resources (CPU, memory, I/O devi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Operating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trols and coordinates the use of the hardware among the various application programs for the various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pplications progr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efine the ways in which the system resources are used to solve the computing problems of the users (compilers, database systems, video games, business progra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eople, machines, other computer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91D-C14C-4A72-8001-5FB24823C7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r sees the system through the system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manipulation 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support (compilers, assemblers, interpreters, linkers, loaders, debug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utilities (file transfer, remote access, remote exec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urpos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and Interpr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3F3-EB6D-4C12-92A2-8555BA54AA3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rating system is divided into a number of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ay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s), each built on top of lower layers.  The bottom layer (layer 0), is the hardware; the highest (layer N) is the user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odula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ayers are selected such that each uses functions (operations) and services of only lower-level lay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1C8-4544-4165-8F65-1702B28C59F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erating System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1017" t="10815" r="1017" b="10815"/>
          <a:stretch/>
        </p:blipFill>
        <p:spPr>
          <a:xfrm>
            <a:off x="1015920" y="990720"/>
            <a:ext cx="7112160" cy="5333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1DB-C6C9-40D8-A339-FAD0A3C203F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ed Structure  - TH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yered design was first used in THE operating system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six layers are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03440" y="2508120"/>
          <a:ext cx="6810480" cy="68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508120"/>
                    <a:ext cx="681048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E7E-4E8F-4290-873B-42908906253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7960" y="3486240"/>
            <a:ext cx="81280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as much from the kernel into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takes place between user modules using message pa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sier to extend a micro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sier to port the operating system to new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re reliable (less code is running in kernel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re 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7960" y="1257480"/>
            <a:ext cx="8229600" cy="20001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7960" y="1257480"/>
            <a:ext cx="1625760" cy="685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2320" y="1403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1257480"/>
            <a:ext cx="172692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66200" y="1403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02320" y="1257480"/>
            <a:ext cx="2235240" cy="685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50880" y="1486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02320" y="1943280"/>
            <a:ext cx="2235240" cy="1314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96360" y="203184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7960" y="1943280"/>
            <a:ext cx="5994360" cy="1314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1280" y="23749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5B5-FB10-4762-89DE-EFAFFEC1E52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virtual mach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s the layered approach to its logical conclusion.  It treats hardware and the operating system kernel as though they were all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rtual machine provides an interf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underlying bare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rating system creates the illusion of multiple processes, each executing on its own processor with its own (virtual)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B78-2226-4E50-95E6-5E67E74AC56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achine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urces of the physical computer are shared to create the virtual 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scheduling can create the appearance that users have their own process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oling and a file system can provide virtual card readers and virtual line prin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rmal user time-sharing terminal serves as the virtual machine operator’s cons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304-E7F8-4D7A-829B-900008C8F0A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achine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rtual-machine concept provides complete protection of system resources since each virtual machine is isolated from all other virtual machines.  This isolation, however, permits no direct sharing of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rtual-machine system is a perfect vehicle for operating-systems research and development.  System development is done on the virtual machine, instead of on a physical machine and so does not disrupt normal system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rtual machine concept is difficult to implement due to the effort required to provide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plicate to the underlying mach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C10-93F3-4144-BB29-E5CF27E96C8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571840" y="2076480"/>
            <a:ext cx="4000320" cy="27050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02960" y="152316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virtual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3840" y="15231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74E-E181-4C18-B660-B5797DE3475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achine-VM/3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1360" y="1828800"/>
            <a:ext cx="7924680" cy="308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1360" y="4229280"/>
            <a:ext cx="79246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45320" y="43750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0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1360" y="3543480"/>
            <a:ext cx="79246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43200" y="374652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/370 -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1360" y="2685960"/>
            <a:ext cx="2743200" cy="8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54560" y="2685960"/>
            <a:ext cx="2641320" cy="8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2685960"/>
            <a:ext cx="2540160" cy="8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07160" y="29145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S/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27800" y="28893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/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60560" y="288936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/370-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360" y="1828800"/>
            <a:ext cx="274320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70280" y="203184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S -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54560" y="1828800"/>
            <a:ext cx="264132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5720" y="2089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 -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1828800"/>
            <a:ext cx="254016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40560" y="203184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585-5FF2-4A7D-86D7-23C9D37CDD4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View of 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DC0-FE80-4DFB-ADE3-7411B4E9E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achine - VM/3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machine is virtu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operating systems (including VM/370) can run side-by-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un batch and time-sharing OS on the sam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prepare a new version of VM/370 while using the machine for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 on big-iron 390 most of CP (VM/370) functions are integral part of  micro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conceptual advance most of the service code out of the basic OS and into individual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big conceptual advance complete resource virt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772-11DE-4FDF-A434-7F857FCDC23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/Disadvantages of Virtual Mach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rtual-machine concept provides complete protection of system resources since each virtual machine is isolated from all other virtual machines.  This isolation, however, permits no direct sharing of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rtual-machine system is a perfect vehicle for operating-systems research and development.  System development is done on the virtual machine, instead of on a physical machine and so does not disrupt normal system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rtual machine concept is difficult to implement due to the effort required to provide an exact duplicate to the underlying mach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F6D-C425-4BB0-BDAA-12CF223FFFD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d Java programs are platform-neutral bytecodes executed by a Java Virtual Machine (JV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VM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ass lo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ass ver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untime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-In-Time (JIT) compilers increas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FB8-A17E-4789-9BF9-BAF52CE4E8A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29433" t="2529" r="29682" b="1894"/>
          <a:stretch/>
        </p:blipFill>
        <p:spPr>
          <a:xfrm>
            <a:off x="3298680" y="1266840"/>
            <a:ext cx="2730600" cy="478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988-9EE6-4935-84BA-428086457E0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goals – operating system should be convenient to use, easy to learn, reliable, safe, and f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goals – operating system should be easy to design, implement, and maintain, as well as flexible, reliable, error-free, and e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CBA-CF34-4AD7-8762-6A63C75CACC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an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echanis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rmin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o something,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oli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d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paration of policy from mechanism is a very important principle, it allows maximum flexibility if policy decisions are to be changed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525-CF47-42E8-BEE2-F5A17ABC4E2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ly written in assembly language, operating systems can now be written in higher-level langu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written in a high-level langu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written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more co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asier to understand and deb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erating system is far easier to port (move to some other hardware) if it is written in a high-level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75E-FB55-4560-A073-C6937B527CA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Generation (SYS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s are designed to run on any of a class of machines; the system must be configured for each specific computer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 obtains information concerning the specific configuration of the hardwar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o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tarting a computer by loading the ker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otstrap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de stored in ROM that is able to locate the kernel, load it into memory, and start its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BFF-AEBF-4FBE-B193-570202B07CB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3520" y="999720"/>
            <a:ext cx="7772400" cy="5429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F5F-C7E0-4DC6-A322-A9532719274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Batch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 an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card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setup time by batching similar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ntrol in moni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ransfers to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job completes control transfers back to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CE5-EBA1-48A1-B0E2-5F537FC6685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source alloc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anages and allocates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trol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trols the execution of user programs and operations of I/O device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er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one program running at all times (all else being application progra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73D-B04B-47F6-A678-198227F4CE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of 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Generation (I.e., first after Charles Babbage ) 1945-19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cuum tubes based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, Unreliable but wonderfu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gramming language - not even machin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by wiring, switches, punched cards, paper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eople, built, programmed, operated and maintained th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Generation 1955-19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istor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 novelty - 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ld be built and s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tag - multimillion dol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, builders, programmers, operators - differen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ne of the above had to be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16F-4384-480B-A40D-7397FEB0809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of history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6080" y="1371240"/>
            <a:ext cx="81788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rs and programming Languages - FORTR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- a collection of sequential steps (e.g., compile, link &amp; 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machines used mainly for scientific/engineering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CPU 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rom cards and output to printer done on smaller, less expensive machines (card to tape and tape to printer) offlin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-to-tape(off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-to-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-to-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-to-printer(off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6C4-0F2B-4D8D-A81B-7EFC6528B29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of history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generation 1965-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C generation the mainframe and the mini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o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-to-disk, disk-to-CPU,processing,CPU-to-disk,disk-to-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rogrammed batc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pools - the OS may start several jobs at once and thus maximize CPU utilization (I.e., while some jobs are waiting for I/O execute a ready j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huge and increasing disparity between CPU and I/O sp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haring - built for good response time (batch systems are built for good through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haring and multiprogrammed batch appeared on second generation machines became widespread with thir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TSS at MIT on a modified IBM7094 in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0C8-8B3B-403C-83AF-819A541A87F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of history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, GE and Bell Labs engaged in MULTICS (MULTiplexed Information and Computing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uting utility (as a power ut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d a wealth of 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written in a programming language PL/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linear virtu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concept proved wrong - no computing utility; the computer industry moved in the opposit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computers - small, simple, to be used by profession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- a fraction of a mainframe but powerful enough to serve the scientific/engineer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completely different technology but different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n Thompson (+Kernigham &amp; Ritchie) who worked on Multics built UNIX on a PDP7 at Bell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1FE-9751-4285-94A9-B5403BDAF48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of history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urth generation Personal computers (1980-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I and then VLSI make hardware in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from the beginning an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ve to be convenient and respo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systems have adopted technology and software developed for mainframes/mini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o their widespread use - user friendly (I.e.,easy to lea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ed Computers - Distributed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88C-4639-4FF9-9A5D-92C93B4BA86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0120" y="1152000"/>
            <a:ext cx="825336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operating systems appear with the secon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is FMS (Fortran Monitor Systems) and OPSYS for IBM70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rogram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new concep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ion - user/user &amp; system/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mode - us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360 and its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&amp; Tim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(many jobs on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usage and Online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User (W95, NT), Multi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028-3386-48BA-9509-30C9F5D704C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of Operating-System Concepts an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579" t="3621" r="434" b="3625"/>
          <a:stretch/>
        </p:blipFill>
        <p:spPr>
          <a:xfrm>
            <a:off x="1447920" y="1438200"/>
            <a:ext cx="6505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271-3A81-4563-A326-6DFAA47A1FB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 the beaten track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P (Symmetric Multiproces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A (non-uniform memory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M -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has to hand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at very high rates - balanced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5F1-EA89-44D8-8480-235AF1B70F2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 the beaten track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man’s parallel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growth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for improved response time or (most often) for improved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has to man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(recov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ensive microprocessors make them attractive as controllers for a multitude of de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 becomes rich and producing the software is the limiting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OS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elements are entering also in the personal systems as they integrate Audio and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259-F984-4601-9E4B-E7E74FD3164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 the beaten trac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real-tim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real-time - guarantees things get executed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 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apabilities emphasize the importance of predictable timed behav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E19-BBA9-4CA7-BBBA-924CD2F0AEA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n a comp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4657680"/>
            <a:ext cx="419076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4657680"/>
            <a:ext cx="419076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eripher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&amp;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909" t="10484" r="1875" b="8114"/>
          <a:stretch/>
        </p:blipFill>
        <p:spPr>
          <a:xfrm>
            <a:off x="203040" y="1257480"/>
            <a:ext cx="8940960" cy="3446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64E-EC95-4551-BC74-8A88595973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Von Neuman’s stored program model ( a program has to be stored in 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here Progr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eripher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with the external world (e.g., displays, keyboards, terminals, printers, audio,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 as external storage devices (e.g., disks, ta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communication with other computers or periph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s are controlled by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trollers/adap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ch controller is in charge of a particular devi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/to a peripheral is transferred to/from memory in one of 2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/O - to/from I/O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data comes in many shap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, parameters, proper-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01A-386A-44B5-82F1-7EF9C7F491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Zvi Yehudai</cp:lastModifiedBy>
  <cp:lastPrinted>1998-12-06T06:28:46Z</cp:lastPrinted>
  <dcterms:modified xsi:type="dcterms:W3CDTF">2005-02-23T12:01:09Z</dcterms:modified>
  <cp:revision>79</cp:revision>
  <dc:subject/>
  <dc:title>Operating Systems</dc:title>
</cp:coreProperties>
</file>